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4022-10FD-4609-828B-F88E7631A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A3B5-B595-4406-9262-3EF1A598DBB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A444-4AAA-4290-97C3-51203A658C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1F2C-1A96-4807-9735-5559DB270FE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005B-B04E-4F52-8B12-2367DC94850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B596-3C07-430F-A249-8BF39F8E328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B1E-F1E5-4A2D-8275-20A84764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838-F55A-4C1A-BB5A-B703D179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279-640F-4207-B579-25D8B885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2E5-0DAF-4379-8FFE-9A72EE13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DA0-5B51-415D-9B18-7556EF9D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E06-836C-493B-A09B-E76131AF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E69-D580-4875-A81E-9556664F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C76-6A16-4CDC-847C-93F4D24E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7A4-000F-4744-BC06-8FDF4F94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AF7-9C6E-4F51-8D58-747DCDF5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12A-376F-4FE4-843A-91332FA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4EF-C5FA-40D3-9EB1-3D33072F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B07C-1482-4A54-B5DC-7B765EA97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s://disk.yandex.ru/i/khvNE4BQpZVEDA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https://disk.yandex.ru/i/0CBJwGygY3z-Sw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fipi.ru/inostr-exam/inostr-exam-det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hyperlink" Target="https://disk.yandex.ru/i/YBsmnJlyKuAUIQ" TargetMode="External"/><Relationship Id="rId4" Type="http://schemas.openxmlformats.org/officeDocument/2006/relationships/hyperlink" Target="https://disk.yandex.ru/i/kir-whTvdkfRnA" TargetMode="External"/><Relationship Id="rId5" Type="http://schemas.openxmlformats.org/officeDocument/2006/relationships/hyperlink" Target="https://disk.yandex.ru/i/kir-whTvdkfRnA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"/>
          <p:cNvSpPr/>
          <p:nvPr/>
        </p:nvSpPr>
        <p:spPr>
          <a:xfrm>
            <a:off x="-2590920" y="-4229280"/>
            <a:ext cx="10812600" cy="10812600"/>
          </a:xfrm>
          <a:custGeom>
            <a:avLst/>
            <a:gdLst>
              <a:gd name="textAreaLeft" fmla="*/ 0 w 10812600"/>
              <a:gd name="textAreaRight" fmla="*/ 10812960 w 10812600"/>
              <a:gd name="textAreaTop" fmla="*/ 0 h 10812600"/>
              <a:gd name="textAreaBottom" fmla="*/ 10812960 h 10812600"/>
            </a:gdLst>
            <a:ahLst/>
            <a:rect l="textAreaLeft" t="textAreaTop" r="textAreaRight" b="textAreaBottom"/>
            <a:pathLst>
              <a:path w="10812392" h="10812392">
                <a:moveTo>
                  <a:pt x="0" y="0"/>
                </a:moveTo>
                <a:lnTo>
                  <a:pt x="10812393" y="0"/>
                </a:lnTo>
                <a:lnTo>
                  <a:pt x="10812393" y="10812392"/>
                </a:lnTo>
                <a:lnTo>
                  <a:pt x="0" y="1081239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 flipH="1">
            <a:off x="8076600" y="647640"/>
            <a:ext cx="97534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5968"/>
                </a:solidFill>
                <a:latin typeface="Calibri"/>
                <a:ea typeface="Aharoni"/>
              </a:rPr>
              <a:t>Министерство образования Самар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-3406680" y="4432320"/>
            <a:ext cx="5763960" cy="5764320"/>
          </a:xfrm>
          <a:custGeom>
            <a:avLst/>
            <a:gdLst>
              <a:gd name="textAreaLeft" fmla="*/ 0 w 5763960"/>
              <a:gd name="textAreaRight" fmla="*/ 5764320 w 5763960"/>
              <a:gd name="textAreaTop" fmla="*/ 0 h 5764320"/>
              <a:gd name="textAreaBottom" fmla="*/ 5764680 h 5764320"/>
            </a:gdLst>
            <a:ahLst/>
            <a:rect l="textAreaLeft" t="textAreaTop" r="textAreaRight" b="textAreaBottom"/>
            <a:pathLst>
              <a:path w="5764383" h="5764383">
                <a:moveTo>
                  <a:pt x="0" y="0"/>
                </a:moveTo>
                <a:lnTo>
                  <a:pt x="5764383" y="0"/>
                </a:lnTo>
                <a:lnTo>
                  <a:pt x="5764383" y="5764383"/>
                </a:lnTo>
                <a:lnTo>
                  <a:pt x="0" y="576438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>
              <a:alphaModFix amt="3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57240" y="7902720"/>
            <a:ext cx="5763960" cy="5763960"/>
          </a:xfrm>
          <a:custGeom>
            <a:avLst/>
            <a:gdLst>
              <a:gd name="textAreaLeft" fmla="*/ 0 w 5763960"/>
              <a:gd name="textAreaRight" fmla="*/ 5764320 w 5763960"/>
              <a:gd name="textAreaTop" fmla="*/ 0 h 5763960"/>
              <a:gd name="textAreaBottom" fmla="*/ 5764320 h 5763960"/>
            </a:gdLst>
            <a:ahLst/>
            <a:rect l="textAreaLeft" t="textAreaTop" r="textAreaRight" b="textAreaBottom"/>
            <a:pathLst>
              <a:path w="5764383" h="5764383">
                <a:moveTo>
                  <a:pt x="0" y="0"/>
                </a:moveTo>
                <a:lnTo>
                  <a:pt x="5764383" y="0"/>
                </a:lnTo>
                <a:lnTo>
                  <a:pt x="5764383" y="5764382"/>
                </a:lnTo>
                <a:lnTo>
                  <a:pt x="0" y="576438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14790600" y="9190080"/>
            <a:ext cx="3430800" cy="684000"/>
            <a:chOff x="14790600" y="9190080"/>
            <a:chExt cx="3430800" cy="684000"/>
          </a:xfrm>
        </p:grpSpPr>
        <p:sp>
          <p:nvSpPr>
            <p:cNvPr id="53" name="TextBox 14"/>
            <p:cNvSpPr/>
            <p:nvPr/>
          </p:nvSpPr>
          <p:spPr>
            <a:xfrm>
              <a:off x="15156720" y="9190080"/>
              <a:ext cx="306468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127080" bIns="127080" anchor="ctr">
              <a:norm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a2e3a"/>
                  </a:solidFill>
                  <a:latin typeface="Telegraf"/>
                  <a:ea typeface="Arial"/>
                </a:rPr>
                <a:t>31.03.20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7"/>
            <p:cNvSpPr/>
            <p:nvPr/>
          </p:nvSpPr>
          <p:spPr>
            <a:xfrm>
              <a:off x="14790600" y="9460800"/>
              <a:ext cx="39672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28800" bIns="28800" anchor="ctr">
              <a:normAutofit/>
            </a:bodyPr>
            <a:p>
              <a:pPr algn="ctr">
                <a:lnSpc>
                  <a:spcPts val="20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18"/>
          <p:cNvSpPr/>
          <p:nvPr/>
        </p:nvSpPr>
        <p:spPr>
          <a:xfrm>
            <a:off x="7467480" y="2881440"/>
            <a:ext cx="998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32ff"/>
                </a:solidFill>
                <a:latin typeface="Calibri"/>
                <a:ea typeface="Aharoni"/>
              </a:rPr>
              <a:t>Порядок приема в государственные и  муниципальные </a:t>
            </a:r>
            <a:r>
              <a:rPr b="1" lang="ru-RU" sz="3600" spc="-1" strike="noStrike" u="sng">
                <a:solidFill>
                  <a:srgbClr val="0432ff"/>
                </a:solidFill>
                <a:uFillTx/>
                <a:latin typeface="Calibri"/>
                <a:ea typeface="Aharoni"/>
              </a:rPr>
              <a:t>обще</a:t>
            </a:r>
            <a:r>
              <a:rPr b="1" lang="ru-RU" sz="3600" spc="-1" strike="noStrike">
                <a:solidFill>
                  <a:srgbClr val="0432ff"/>
                </a:solidFill>
                <a:latin typeface="Calibri"/>
                <a:ea typeface="Aharoni"/>
              </a:rPr>
              <a:t>образовательные организации иностранных граждан и лиц без гражданства и проведение тестирования на знание ими русского языка, достаточного для освоения образовательных программ начального общего, основного общего и среднего общего образ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685800" y="495360"/>
            <a:ext cx="335268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reeform 2"/>
          <p:cNvSpPr/>
          <p:nvPr/>
        </p:nvSpPr>
        <p:spPr>
          <a:xfrm>
            <a:off x="-1676520" y="-2019240"/>
            <a:ext cx="13960440" cy="13960440"/>
          </a:xfrm>
          <a:custGeom>
            <a:avLst/>
            <a:gdLst>
              <a:gd name="textAreaLeft" fmla="*/ 0 w 13960440"/>
              <a:gd name="textAreaRight" fmla="*/ 13960800 w 13960440"/>
              <a:gd name="textAreaTop" fmla="*/ 0 h 13960440"/>
              <a:gd name="textAreaBottom" fmla="*/ 13960800 h 13960440"/>
            </a:gdLst>
            <a:ahLst/>
            <a:rect l="textAreaLeft" t="textAreaTop" r="textAreaRight" b="textAreaBottom"/>
            <a:pathLst>
              <a:path w="13960430" h="13960430">
                <a:moveTo>
                  <a:pt x="0" y="0"/>
                </a:moveTo>
                <a:lnTo>
                  <a:pt x="13960431" y="0"/>
                </a:lnTo>
                <a:lnTo>
                  <a:pt x="13960431" y="13960430"/>
                </a:lnTo>
                <a:lnTo>
                  <a:pt x="0" y="1396043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295280" y="1181160"/>
            <a:ext cx="7391520" cy="6619680"/>
            <a:chOff x="1295280" y="1181160"/>
            <a:chExt cx="7391520" cy="6619680"/>
          </a:xfrm>
        </p:grpSpPr>
        <p:sp>
          <p:nvSpPr>
            <p:cNvPr id="203" name="TextBox 4"/>
            <p:cNvSpPr/>
            <p:nvPr/>
          </p:nvSpPr>
          <p:spPr>
            <a:xfrm>
              <a:off x="1295280" y="1181160"/>
              <a:ext cx="7391520" cy="46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90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2a2e3a"/>
                  </a:solidFill>
                  <a:latin typeface="Klein Bold"/>
                  <a:ea typeface="Arial"/>
                </a:rPr>
                <a:t>Получение комплектов  диагностических материалов (КДМ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5"/>
            <p:cNvSpPr/>
            <p:nvPr/>
          </p:nvSpPr>
          <p:spPr>
            <a:xfrm>
              <a:off x="1447560" y="7277760"/>
              <a:ext cx="61984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4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0374480" y="0"/>
            <a:ext cx="7848360" cy="102870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9"/>
          <p:cNvGrpSpPr/>
          <p:nvPr/>
        </p:nvGrpSpPr>
        <p:grpSpPr>
          <a:xfrm>
            <a:off x="10907640" y="507960"/>
            <a:ext cx="6542280" cy="1478160"/>
            <a:chOff x="10907640" y="507960"/>
            <a:chExt cx="6542280" cy="1478160"/>
          </a:xfrm>
        </p:grpSpPr>
        <p:sp>
          <p:nvSpPr>
            <p:cNvPr id="207" name="TextBox 10"/>
            <p:cNvSpPr/>
            <p:nvPr/>
          </p:nvSpPr>
          <p:spPr>
            <a:xfrm>
              <a:off x="10907640" y="507960"/>
              <a:ext cx="540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1"/>
            <p:cNvSpPr/>
            <p:nvPr/>
          </p:nvSpPr>
          <p:spPr>
            <a:xfrm>
              <a:off x="10936440" y="1062000"/>
              <a:ext cx="651348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Файлы КДМ находятся в зашифрованном архив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4"/>
          <p:cNvGrpSpPr/>
          <p:nvPr/>
        </p:nvGrpSpPr>
        <p:grpSpPr>
          <a:xfrm>
            <a:off x="11277720" y="3081240"/>
            <a:ext cx="6248160" cy="2568960"/>
            <a:chOff x="11277720" y="3081240"/>
            <a:chExt cx="6248160" cy="2568960"/>
          </a:xfrm>
        </p:grpSpPr>
        <p:sp>
          <p:nvSpPr>
            <p:cNvPr id="210" name="TextBox 15"/>
            <p:cNvSpPr/>
            <p:nvPr/>
          </p:nvSpPr>
          <p:spPr>
            <a:xfrm>
              <a:off x="11277720" y="3081240"/>
              <a:ext cx="5583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6"/>
            <p:cNvSpPr/>
            <p:nvPr/>
          </p:nvSpPr>
          <p:spPr>
            <a:xfrm>
              <a:off x="11277720" y="3802320"/>
              <a:ext cx="62481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Helios"/>
                  <a:ea typeface="Arial"/>
                </a:rPr>
                <a:t>Территориальные управления</a:t>
              </a:r>
              <a:r>
                <a:rPr b="1" lang="en-US" sz="3200" spc="-1" strike="noStrike">
                  <a:solidFill>
                    <a:srgbClr val="ffffff"/>
                  </a:solidFill>
                  <a:latin typeface="Helios"/>
                  <a:ea typeface="Arial"/>
                </a:rPr>
                <a:t>/</a:t>
              </a:r>
              <a:r>
                <a:rPr b="1" lang="ru-RU" sz="3200" spc="-1" strike="noStrike">
                  <a:solidFill>
                    <a:srgbClr val="ffffff"/>
                  </a:solidFill>
                  <a:latin typeface="Helios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Helios"/>
                  <a:ea typeface="Arial"/>
                </a:rPr>
                <a:t>Департаменты образования (через </a:t>
              </a:r>
              <a:r>
                <a:rPr b="1" lang="en-US" sz="2400" spc="-1" strike="noStrike">
                  <a:solidFill>
                    <a:srgbClr val="ffffff"/>
                  </a:solidFill>
                  <a:latin typeface="Helios"/>
                  <a:ea typeface="Arial"/>
                </a:rPr>
                <a:t>VipNet) </a:t>
              </a: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получают пароль от РЦОИ в день проведения тестирования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18" descr=""/>
          <p:cNvPicPr/>
          <p:nvPr/>
        </p:nvPicPr>
        <p:blipFill>
          <a:blip r:embed="rId3"/>
          <a:stretch/>
        </p:blipFill>
        <p:spPr>
          <a:xfrm>
            <a:off x="331920" y="5710320"/>
            <a:ext cx="1241280" cy="17524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0"/>
          <p:cNvSpPr/>
          <p:nvPr/>
        </p:nvSpPr>
        <p:spPr>
          <a:xfrm>
            <a:off x="1933560" y="5295960"/>
            <a:ext cx="8001000" cy="3505320"/>
          </a:xfrm>
          <a:prstGeom prst="rect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0440" rIns="190440" tIns="190440" bIns="1904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2e3a"/>
                </a:solidFill>
                <a:latin typeface="Helios"/>
                <a:ea typeface="Arial"/>
              </a:rPr>
              <a:t>Рособрнадзор </a:t>
            </a:r>
            <a:r>
              <a:rPr b="1" lang="ru-RU" sz="3600" spc="-1" strike="noStrike">
                <a:solidFill>
                  <a:srgbClr val="2a2e3a"/>
                </a:solidFill>
                <a:latin typeface="Helios"/>
                <a:ea typeface="Arial"/>
              </a:rPr>
              <a:t>→</a:t>
            </a:r>
            <a:r>
              <a:rPr b="1" lang="ru-RU" sz="2800" spc="-1" strike="noStrike">
                <a:solidFill>
                  <a:srgbClr val="2a2e3a"/>
                </a:solidFill>
                <a:latin typeface="Helios"/>
                <a:ea typeface="Arial"/>
              </a:rPr>
              <a:t> Региональный центр обработки информации (РЦОИ )</a:t>
            </a:r>
            <a:r>
              <a:rPr b="1" lang="ru-RU" sz="3600" spc="-1" strike="noStrike">
                <a:solidFill>
                  <a:srgbClr val="2a2e3a"/>
                </a:solidFill>
                <a:latin typeface="Helios"/>
                <a:ea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2e3a"/>
                </a:solidFill>
                <a:latin typeface="Helios"/>
                <a:ea typeface="Arial"/>
              </a:rPr>
              <a:t>Территориальные управления</a:t>
            </a:r>
            <a:r>
              <a:rPr b="1" lang="en-US" sz="3600" spc="-1" strike="noStrike">
                <a:solidFill>
                  <a:srgbClr val="2a2e3a"/>
                </a:solidFill>
                <a:latin typeface="Helios"/>
                <a:ea typeface="Arial"/>
              </a:rPr>
              <a:t>/</a:t>
            </a:r>
            <a:r>
              <a:rPr b="1" lang="ru-RU" sz="2800" spc="-1" strike="noStrike">
                <a:solidFill>
                  <a:srgbClr val="2a2e3a"/>
                </a:solidFill>
                <a:latin typeface="Helios"/>
                <a:ea typeface="Arial"/>
              </a:rPr>
              <a:t>Департаменты образования (через </a:t>
            </a:r>
            <a:r>
              <a:rPr b="1" lang="en-US" sz="2800" spc="-1" strike="noStrike">
                <a:solidFill>
                  <a:srgbClr val="2a2e3a"/>
                </a:solidFill>
                <a:latin typeface="Helios"/>
                <a:ea typeface="Arial"/>
              </a:rPr>
              <a:t>VipNet) </a:t>
            </a:r>
            <a:r>
              <a:rPr b="1" lang="ru-RU" sz="3600" spc="-1" strike="noStrike">
                <a:solidFill>
                  <a:srgbClr val="2a2e3a"/>
                </a:solidFill>
                <a:latin typeface="Helios"/>
                <a:ea typeface="Arial"/>
              </a:rPr>
              <a:t>→  </a:t>
            </a:r>
            <a:r>
              <a:rPr b="1" lang="ru-RU" sz="2800" spc="-1" strike="noStrike">
                <a:solidFill>
                  <a:srgbClr val="2a2e3a"/>
                </a:solidFill>
                <a:latin typeface="Helios"/>
                <a:ea typeface="Arial"/>
              </a:rPr>
              <a:t>ОО (через внутреннюю почту АСУ РС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1899800" y="638820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Klein Bold"/>
                <a:ea typeface="Klein Bold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11887200" y="7048440"/>
            <a:ext cx="617220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Helios"/>
                <a:ea typeface="Arial"/>
              </a:rPr>
              <a:t>Образовательные организации получают пароль от территориальных управлений/департаментов образования по внутренней почте АСУ РСО в день проведения тестировани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2"/>
          <p:cNvSpPr/>
          <p:nvPr/>
        </p:nvSpPr>
        <p:spPr>
          <a:xfrm>
            <a:off x="-1828800" y="-1943280"/>
            <a:ext cx="13960440" cy="13960800"/>
          </a:xfrm>
          <a:custGeom>
            <a:avLst/>
            <a:gdLst>
              <a:gd name="textAreaLeft" fmla="*/ 0 w 13960440"/>
              <a:gd name="textAreaRight" fmla="*/ 13960800 w 13960440"/>
              <a:gd name="textAreaTop" fmla="*/ 0 h 13960800"/>
              <a:gd name="textAreaBottom" fmla="*/ 13961160 h 13960800"/>
            </a:gdLst>
            <a:ahLst/>
            <a:rect l="textAreaLeft" t="textAreaTop" r="textAreaRight" b="textAreaBottom"/>
            <a:pathLst>
              <a:path w="13960430" h="13960430">
                <a:moveTo>
                  <a:pt x="0" y="0"/>
                </a:moveTo>
                <a:lnTo>
                  <a:pt x="13960431" y="0"/>
                </a:lnTo>
                <a:lnTo>
                  <a:pt x="13960431" y="13960430"/>
                </a:lnTo>
                <a:lnTo>
                  <a:pt x="0" y="1396043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295280" y="1409760"/>
            <a:ext cx="7391520" cy="7421400"/>
            <a:chOff x="1295280" y="1409760"/>
            <a:chExt cx="7391520" cy="7421400"/>
          </a:xfrm>
        </p:grpSpPr>
        <p:sp>
          <p:nvSpPr>
            <p:cNvPr id="218" name="TextBox 4"/>
            <p:cNvSpPr/>
            <p:nvPr/>
          </p:nvSpPr>
          <p:spPr>
            <a:xfrm>
              <a:off x="1295280" y="1409760"/>
              <a:ext cx="7010640" cy="69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90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2a2e3a"/>
                  </a:solidFill>
                  <a:latin typeface="Klein Bold"/>
                  <a:ea typeface="Arial"/>
                </a:rPr>
                <a:t>Проведение тестирования инностранных граждан     (оценивание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0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5"/>
            <p:cNvSpPr/>
            <p:nvPr/>
          </p:nvSpPr>
          <p:spPr>
            <a:xfrm>
              <a:off x="3276360" y="6514560"/>
              <a:ext cx="5410440" cy="2316600"/>
            </a:xfrm>
            <a:prstGeom prst="rect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a2e3a"/>
                  </a:solidFill>
                  <a:latin typeface="Helios"/>
                  <a:ea typeface="Arial"/>
                </a:rPr>
                <a:t>Минимальное количество баллов, подтверждающих прохождение тестирования 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2a2e3a"/>
                  </a:solidFill>
                  <a:latin typeface="Helios"/>
                  <a:ea typeface="Arial"/>
                </a:rPr>
                <a:t>3 балл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f497d"/>
                  </a:solidFill>
                  <a:latin typeface="Helios"/>
                  <a:ea typeface="Arial"/>
                </a:rPr>
                <a:t>(п</a:t>
              </a:r>
              <a:r>
                <a:rPr b="0" lang="ru-RU" sz="2400" spc="-1" strike="noStrike">
                  <a:solidFill>
                    <a:srgbClr val="2a2e3a"/>
                  </a:solidFill>
                  <a:latin typeface="Helios"/>
                  <a:ea typeface="Arial"/>
                </a:rPr>
                <a:t>риказ Минпросвещ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a2e3a"/>
                  </a:solidFill>
                  <a:latin typeface="Helios"/>
                  <a:ea typeface="Arial"/>
                </a:rPr>
                <a:t>от 05.03.2025 № 51</a:t>
              </a:r>
              <a:r>
                <a:rPr b="0" lang="ru-RU" sz="2400" spc="-1" strike="noStrike">
                  <a:solidFill>
                    <a:srgbClr val="1f497d"/>
                  </a:solidFill>
                  <a:latin typeface="Helios"/>
                  <a:ea typeface="Arial"/>
                </a:rPr>
                <a:t>0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10515600" y="0"/>
            <a:ext cx="7848720" cy="1028700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9"/>
          <p:cNvGrpSpPr/>
          <p:nvPr/>
        </p:nvGrpSpPr>
        <p:grpSpPr>
          <a:xfrm>
            <a:off x="10907640" y="507960"/>
            <a:ext cx="6058080" cy="1478520"/>
            <a:chOff x="10907640" y="507960"/>
            <a:chExt cx="6058080" cy="1478520"/>
          </a:xfrm>
        </p:grpSpPr>
        <p:sp>
          <p:nvSpPr>
            <p:cNvPr id="222" name="TextBox 10"/>
            <p:cNvSpPr/>
            <p:nvPr/>
          </p:nvSpPr>
          <p:spPr>
            <a:xfrm>
              <a:off x="10907640" y="507960"/>
              <a:ext cx="500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1"/>
            <p:cNvSpPr/>
            <p:nvPr/>
          </p:nvSpPr>
          <p:spPr>
            <a:xfrm>
              <a:off x="10934280" y="1062360"/>
              <a:ext cx="603144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Срок проверки – 3 дня, не считая даты проведения тестирован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4"/>
          <p:cNvGrpSpPr/>
          <p:nvPr/>
        </p:nvGrpSpPr>
        <p:grpSpPr>
          <a:xfrm>
            <a:off x="11782440" y="2610000"/>
            <a:ext cx="5900760" cy="2535120"/>
            <a:chOff x="11782440" y="2610000"/>
            <a:chExt cx="5900760" cy="2535120"/>
          </a:xfrm>
        </p:grpSpPr>
        <p:sp>
          <p:nvSpPr>
            <p:cNvPr id="225" name="TextBox 15"/>
            <p:cNvSpPr/>
            <p:nvPr/>
          </p:nvSpPr>
          <p:spPr>
            <a:xfrm>
              <a:off x="11782440" y="2610000"/>
              <a:ext cx="527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6"/>
            <p:cNvSpPr/>
            <p:nvPr/>
          </p:nvSpPr>
          <p:spPr>
            <a:xfrm>
              <a:off x="11782440" y="3297240"/>
              <a:ext cx="59007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Комиссия по тестированию оформляет 2 протокола по каждому тестируемому гражданину: на устную и письменную части отдельн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Freeform 18"/>
          <p:cNvSpPr/>
          <p:nvPr/>
        </p:nvSpPr>
        <p:spPr>
          <a:xfrm>
            <a:off x="10801440" y="5773680"/>
            <a:ext cx="1608120" cy="1247760"/>
          </a:xfrm>
          <a:custGeom>
            <a:avLst/>
            <a:gdLst>
              <a:gd name="textAreaLeft" fmla="*/ 0 w 1608120"/>
              <a:gd name="textAreaRight" fmla="*/ 1608480 w 160812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607421" h="1247944">
                <a:moveTo>
                  <a:pt x="0" y="0"/>
                </a:moveTo>
                <a:lnTo>
                  <a:pt x="1607421" y="0"/>
                </a:lnTo>
                <a:lnTo>
                  <a:pt x="1607421" y="1247944"/>
                </a:lnTo>
                <a:lnTo>
                  <a:pt x="0" y="12479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2565080" y="5773680"/>
            <a:ext cx="5181480" cy="46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Helios"/>
                <a:ea typeface="Arial"/>
              </a:rPr>
              <a:t>Руководитель общеобразовательной организации подписывает уведомление о результатах тестирования и направляет родителю ребенка, являющегося иностранным гражданином, на адрес электронной почты, указанный в заявлении, либо в личный кабинет Госуслуг (при </a:t>
            </a: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налич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8" descr=""/>
          <p:cNvPicPr/>
          <p:nvPr/>
        </p:nvPicPr>
        <p:blipFill>
          <a:blip r:embed="rId4"/>
          <a:stretch/>
        </p:blipFill>
        <p:spPr>
          <a:xfrm>
            <a:off x="1623960" y="6751800"/>
            <a:ext cx="123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2"/>
          <p:cNvSpPr/>
          <p:nvPr/>
        </p:nvSpPr>
        <p:spPr>
          <a:xfrm>
            <a:off x="-1905120" y="-1714680"/>
            <a:ext cx="13960440" cy="13960800"/>
          </a:xfrm>
          <a:custGeom>
            <a:avLst/>
            <a:gdLst>
              <a:gd name="textAreaLeft" fmla="*/ 0 w 13960440"/>
              <a:gd name="textAreaRight" fmla="*/ 13960800 w 13960440"/>
              <a:gd name="textAreaTop" fmla="*/ 0 h 13960800"/>
              <a:gd name="textAreaBottom" fmla="*/ 13961160 h 13960800"/>
            </a:gdLst>
            <a:ahLst/>
            <a:rect l="textAreaLeft" t="textAreaTop" r="textAreaRight" b="textAreaBottom"/>
            <a:pathLst>
              <a:path w="13960430" h="13960430">
                <a:moveTo>
                  <a:pt x="0" y="0"/>
                </a:moveTo>
                <a:lnTo>
                  <a:pt x="13960431" y="0"/>
                </a:lnTo>
                <a:lnTo>
                  <a:pt x="13960431" y="13960430"/>
                </a:lnTo>
                <a:lnTo>
                  <a:pt x="0" y="1396043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1143000" y="571680"/>
            <a:ext cx="16764120" cy="4563720"/>
            <a:chOff x="1143000" y="571680"/>
            <a:chExt cx="16764120" cy="4563720"/>
          </a:xfrm>
        </p:grpSpPr>
        <p:sp>
          <p:nvSpPr>
            <p:cNvPr id="232" name="TextBox 4"/>
            <p:cNvSpPr/>
            <p:nvPr/>
          </p:nvSpPr>
          <p:spPr>
            <a:xfrm>
              <a:off x="1143000" y="4059000"/>
              <a:ext cx="674388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90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5"/>
            <p:cNvSpPr/>
            <p:nvPr/>
          </p:nvSpPr>
          <p:spPr>
            <a:xfrm>
              <a:off x="10972800" y="571680"/>
              <a:ext cx="693432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0593360" y="0"/>
            <a:ext cx="7696080" cy="102870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9"/>
          <p:cNvGrpSpPr/>
          <p:nvPr/>
        </p:nvGrpSpPr>
        <p:grpSpPr>
          <a:xfrm>
            <a:off x="10896480" y="343080"/>
            <a:ext cx="5715000" cy="3011760"/>
            <a:chOff x="10896480" y="343080"/>
            <a:chExt cx="5715000" cy="3011760"/>
          </a:xfrm>
        </p:grpSpPr>
        <p:sp>
          <p:nvSpPr>
            <p:cNvPr id="236" name="TextBox 10"/>
            <p:cNvSpPr/>
            <p:nvPr/>
          </p:nvSpPr>
          <p:spPr>
            <a:xfrm>
              <a:off x="10896480" y="343080"/>
              <a:ext cx="568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1"/>
            <p:cNvSpPr/>
            <p:nvPr/>
          </p:nvSpPr>
          <p:spPr>
            <a:xfrm>
              <a:off x="11004120" y="1045080"/>
              <a:ext cx="5607360" cy="23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Если ребенок не прошел тестирование, ему предлагается пройти дополнительное обучение по русскому языку </a:t>
              </a:r>
              <a:r>
                <a:rPr b="0" i="1" lang="ru-RU" sz="2000" spc="-1" strike="noStrike">
                  <a:solidFill>
                    <a:srgbClr val="ffffff"/>
                  </a:solidFill>
                  <a:latin typeface="Helios"/>
                  <a:ea typeface="Arial"/>
                </a:rPr>
                <a:t>(оплачивается родителями (законными представителями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4"/>
          <p:cNvGrpSpPr/>
          <p:nvPr/>
        </p:nvGrpSpPr>
        <p:grpSpPr>
          <a:xfrm>
            <a:off x="11979360" y="3898800"/>
            <a:ext cx="4567320" cy="2066040"/>
            <a:chOff x="11979360" y="3898800"/>
            <a:chExt cx="4567320" cy="2066040"/>
          </a:xfrm>
        </p:grpSpPr>
        <p:sp>
          <p:nvSpPr>
            <p:cNvPr id="239" name="TextBox 15"/>
            <p:cNvSpPr/>
            <p:nvPr/>
          </p:nvSpPr>
          <p:spPr>
            <a:xfrm>
              <a:off x="11979360" y="3898800"/>
              <a:ext cx="450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6"/>
            <p:cNvSpPr/>
            <p:nvPr/>
          </p:nvSpPr>
          <p:spPr>
            <a:xfrm>
              <a:off x="12042360" y="4578840"/>
              <a:ext cx="450432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Повторно пройти тестирование можно не ранее, чем через 3 месяц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9"/>
          <p:cNvGrpSpPr/>
          <p:nvPr/>
        </p:nvGrpSpPr>
        <p:grpSpPr>
          <a:xfrm>
            <a:off x="13269960" y="6777000"/>
            <a:ext cx="5886360" cy="2507400"/>
            <a:chOff x="13269960" y="6777000"/>
            <a:chExt cx="5886360" cy="2507400"/>
          </a:xfrm>
        </p:grpSpPr>
        <p:sp>
          <p:nvSpPr>
            <p:cNvPr id="242" name="TextBox 20"/>
            <p:cNvSpPr/>
            <p:nvPr/>
          </p:nvSpPr>
          <p:spPr>
            <a:xfrm>
              <a:off x="13269960" y="6777000"/>
              <a:ext cx="5867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3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21"/>
            <p:cNvSpPr/>
            <p:nvPr/>
          </p:nvSpPr>
          <p:spPr>
            <a:xfrm>
              <a:off x="13289400" y="7436520"/>
              <a:ext cx="586692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При повторном прохождении тестирования не допускается предоставление ранее использованного варианта КДМ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18" descr=""/>
          <p:cNvPicPr/>
          <p:nvPr/>
        </p:nvPicPr>
        <p:blipFill>
          <a:blip r:embed="rId3"/>
          <a:stretch/>
        </p:blipFill>
        <p:spPr>
          <a:xfrm>
            <a:off x="228600" y="6438960"/>
            <a:ext cx="1239840" cy="17524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7"/>
          <p:cNvSpPr/>
          <p:nvPr/>
        </p:nvSpPr>
        <p:spPr>
          <a:xfrm>
            <a:off x="1752480" y="5753160"/>
            <a:ext cx="7620120" cy="365760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Территориальным управлением/департаментом образования создается (до 21.04.2025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Helios"/>
              </a:rPr>
              <a:t>апелляционная комиссия</a:t>
            </a: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-принимает и рассматривает апелляции граждан о нарушениях процедуры апелляции и несогласии с выставленными балл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-принимает решение об удовлетворении или отклонении апел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- информирует о принятом решении родителей иностранного граждан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849240" y="1409760"/>
            <a:ext cx="72010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a2e3a"/>
                </a:solidFill>
                <a:latin typeface="Klein Bold"/>
                <a:ea typeface="Arial"/>
              </a:rPr>
              <a:t>Проведение тестирования иностранных 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reeform 2"/>
          <p:cNvSpPr/>
          <p:nvPr/>
        </p:nvSpPr>
        <p:spPr>
          <a:xfrm>
            <a:off x="-1828800" y="-1943280"/>
            <a:ext cx="13960440" cy="13960800"/>
          </a:xfrm>
          <a:custGeom>
            <a:avLst/>
            <a:gdLst>
              <a:gd name="textAreaLeft" fmla="*/ 0 w 13960440"/>
              <a:gd name="textAreaRight" fmla="*/ 13960800 w 13960440"/>
              <a:gd name="textAreaTop" fmla="*/ 0 h 13960800"/>
              <a:gd name="textAreaBottom" fmla="*/ 13961160 h 13960800"/>
            </a:gdLst>
            <a:ahLst/>
            <a:rect l="textAreaLeft" t="textAreaTop" r="textAreaRight" b="textAreaBottom"/>
            <a:pathLst>
              <a:path w="13960430" h="13960430">
                <a:moveTo>
                  <a:pt x="0" y="0"/>
                </a:moveTo>
                <a:lnTo>
                  <a:pt x="13960431" y="0"/>
                </a:lnTo>
                <a:lnTo>
                  <a:pt x="13960431" y="13960430"/>
                </a:lnTo>
                <a:lnTo>
                  <a:pt x="0" y="1396043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1295280" y="1866960"/>
            <a:ext cx="7010640" cy="5217480"/>
            <a:chOff x="1295280" y="1866960"/>
            <a:chExt cx="7010640" cy="5217480"/>
          </a:xfrm>
        </p:grpSpPr>
        <p:sp>
          <p:nvSpPr>
            <p:cNvPr id="249" name="TextBox 4"/>
            <p:cNvSpPr/>
            <p:nvPr/>
          </p:nvSpPr>
          <p:spPr>
            <a:xfrm>
              <a:off x="1295280" y="1866960"/>
              <a:ext cx="7010640" cy="46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90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2a2e3a"/>
                  </a:solidFill>
                  <a:latin typeface="Klein Bold"/>
                  <a:ea typeface="Arial"/>
                </a:rPr>
                <a:t>Проведение тестирования иностранных граждан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5"/>
            <p:cNvSpPr/>
            <p:nvPr/>
          </p:nvSpPr>
          <p:spPr>
            <a:xfrm>
              <a:off x="2052000" y="6516000"/>
              <a:ext cx="6198480" cy="568440"/>
            </a:xfrm>
            <a:prstGeom prst="rect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4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2a2e3a"/>
                  </a:solidFill>
                  <a:latin typeface="Helios"/>
                  <a:ea typeface="Arial"/>
                </a:rPr>
                <a:t>Учет и хранение материалов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10515600" y="0"/>
            <a:ext cx="7848720" cy="10287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9"/>
          <p:cNvGrpSpPr/>
          <p:nvPr/>
        </p:nvGrpSpPr>
        <p:grpSpPr>
          <a:xfrm>
            <a:off x="10922040" y="162000"/>
            <a:ext cx="6057720" cy="2863440"/>
            <a:chOff x="10922040" y="162000"/>
            <a:chExt cx="6057720" cy="2863440"/>
          </a:xfrm>
        </p:grpSpPr>
        <p:sp>
          <p:nvSpPr>
            <p:cNvPr id="253" name="TextBox 10"/>
            <p:cNvSpPr/>
            <p:nvPr/>
          </p:nvSpPr>
          <p:spPr>
            <a:xfrm>
              <a:off x="10922040" y="162000"/>
              <a:ext cx="500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1"/>
            <p:cNvSpPr/>
            <p:nvPr/>
          </p:nvSpPr>
          <p:spPr>
            <a:xfrm>
              <a:off x="10948680" y="715680"/>
              <a:ext cx="6031080" cy="23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Все материалы тестирования хранятся в тестирующей организации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1 календарный год (протоколы, видео и аудио записи, уведомления с отметкой о вручении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4"/>
          <p:cNvGrpSpPr/>
          <p:nvPr/>
        </p:nvGrpSpPr>
        <p:grpSpPr>
          <a:xfrm>
            <a:off x="11963520" y="3390840"/>
            <a:ext cx="6151320" cy="2073240"/>
            <a:chOff x="11963520" y="3390840"/>
            <a:chExt cx="6151320" cy="2073240"/>
          </a:xfrm>
        </p:grpSpPr>
        <p:sp>
          <p:nvSpPr>
            <p:cNvPr id="256" name="TextBox 15"/>
            <p:cNvSpPr/>
            <p:nvPr/>
          </p:nvSpPr>
          <p:spPr>
            <a:xfrm>
              <a:off x="11963520" y="3390840"/>
              <a:ext cx="549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6"/>
            <p:cNvSpPr/>
            <p:nvPr/>
          </p:nvSpPr>
          <p:spPr>
            <a:xfrm>
              <a:off x="11963520" y="4078080"/>
              <a:ext cx="615132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Учет сведений о результатах тестирования обеспечивается образовательными организациям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Freeform 18"/>
          <p:cNvSpPr/>
          <p:nvPr/>
        </p:nvSpPr>
        <p:spPr>
          <a:xfrm>
            <a:off x="11615760" y="6153120"/>
            <a:ext cx="1608120" cy="1247760"/>
          </a:xfrm>
          <a:custGeom>
            <a:avLst/>
            <a:gdLst>
              <a:gd name="textAreaLeft" fmla="*/ 0 w 1608120"/>
              <a:gd name="textAreaRight" fmla="*/ 1608480 w 160812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607421" h="1247944">
                <a:moveTo>
                  <a:pt x="0" y="0"/>
                </a:moveTo>
                <a:lnTo>
                  <a:pt x="1607421" y="0"/>
                </a:lnTo>
                <a:lnTo>
                  <a:pt x="1607421" y="1247944"/>
                </a:lnTo>
                <a:lnTo>
                  <a:pt x="0" y="12479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13331880" y="6153120"/>
            <a:ext cx="518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Руководитель общеобразовательной организации издает распорядительный акт о приеме на обучение ребенка в те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5 рабочих дней после официального поступления информации об успешном прохождении тес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8" descr=""/>
          <p:cNvPicPr/>
          <p:nvPr/>
        </p:nvPicPr>
        <p:blipFill>
          <a:blip r:embed="rId4"/>
          <a:stretch/>
        </p:blipFill>
        <p:spPr>
          <a:xfrm>
            <a:off x="430200" y="5721480"/>
            <a:ext cx="123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9144000" y="0"/>
            <a:ext cx="9524880" cy="10287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0"/>
          <p:cNvSpPr/>
          <p:nvPr/>
        </p:nvSpPr>
        <p:spPr>
          <a:xfrm>
            <a:off x="10907640" y="277920"/>
            <a:ext cx="5000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8" descr=""/>
          <p:cNvPicPr/>
          <p:nvPr/>
        </p:nvPicPr>
        <p:blipFill>
          <a:blip r:embed="rId2"/>
          <a:stretch/>
        </p:blipFill>
        <p:spPr>
          <a:xfrm>
            <a:off x="228600" y="343080"/>
            <a:ext cx="1185840" cy="16761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2362320" y="495360"/>
            <a:ext cx="5181480" cy="1312920"/>
          </a:xfrm>
          <a:prstGeom prst="rect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Часто задаваемые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 flipH="1">
            <a:off x="11375280" y="495360"/>
            <a:ext cx="583236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358920" y="2479680"/>
            <a:ext cx="7823160" cy="70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роходят  ли тестирование выпускники дошкольных отделений шко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Проходят ли тестирование инофоны, если они имею гражданство РФ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Как проходят тестирование иностранные граждане, имеющие статус ОВ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Проходят ли тестирование уже зачисленные или обучающиеся в других школах дети мигран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Кто осуществляет прием устной части и проверку тес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0"/>
          <p:cNvSpPr/>
          <p:nvPr/>
        </p:nvSpPr>
        <p:spPr>
          <a:xfrm>
            <a:off x="9360000" y="2300400"/>
            <a:ext cx="8928000" cy="7909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Нет, так как они уже зачислены в образовательную организ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ет, так как они не являются  иностранными граждан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Иностранные граждане, имеющие статус ОВЗ, проходят тестирование на тех же услов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ет, зачисленные ранее (до 01.04.2025) в образовательные организации тестирование не проходя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Проверка результатов тестирования осуществляется членами комиссии по тестиро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8" descr=""/>
          <p:cNvPicPr/>
          <p:nvPr/>
        </p:nvPicPr>
        <p:blipFill>
          <a:blip r:embed="rId3"/>
          <a:stretch/>
        </p:blipFill>
        <p:spPr>
          <a:xfrm>
            <a:off x="9720360" y="390600"/>
            <a:ext cx="11858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774000" y="-1137600"/>
            <a:ext cx="6824880" cy="7124760"/>
            <a:chOff x="774000" y="-1137600"/>
            <a:chExt cx="6824880" cy="7124760"/>
          </a:xfrm>
        </p:grpSpPr>
        <p:sp>
          <p:nvSpPr>
            <p:cNvPr id="270" name="Freeform 3"/>
            <p:cNvSpPr/>
            <p:nvPr/>
          </p:nvSpPr>
          <p:spPr>
            <a:xfrm rot="20398800">
              <a:off x="1591200" y="-420840"/>
              <a:ext cx="5190120" cy="5691600"/>
            </a:xfrm>
            <a:custGeom>
              <a:avLst/>
              <a:gdLst>
                <a:gd name="textAreaLeft" fmla="*/ 0 w 5190120"/>
                <a:gd name="textAreaRight" fmla="*/ 5190480 w 5190120"/>
                <a:gd name="textAreaTop" fmla="*/ 0 h 5691600"/>
                <a:gd name="textAreaBottom" fmla="*/ 5691960 h 5691600"/>
              </a:gdLst>
              <a:ahLst/>
              <a:rect l="textAreaLeft" t="textAreaTop" r="textAreaRight" b="textAreaBottom"/>
              <a:pathLst>
                <a:path w="10252025" h="10252025">
                  <a:moveTo>
                    <a:pt x="0" y="0"/>
                  </a:moveTo>
                  <a:lnTo>
                    <a:pt x="10252025" y="0"/>
                  </a:lnTo>
                  <a:lnTo>
                    <a:pt x="10252025" y="10252025"/>
                  </a:lnTo>
                  <a:lnTo>
                    <a:pt x="0" y="1025202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>
                <a:alphaModFix amt="31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"/>
            <p:cNvSpPr/>
            <p:nvPr/>
          </p:nvSpPr>
          <p:spPr>
            <a:xfrm>
              <a:off x="1523880" y="-495360"/>
              <a:ext cx="5190120" cy="5691600"/>
            </a:xfrm>
            <a:custGeom>
              <a:avLst/>
              <a:gdLst>
                <a:gd name="textAreaLeft" fmla="*/ 0 w 5190120"/>
                <a:gd name="textAreaRight" fmla="*/ 5190480 w 5190120"/>
                <a:gd name="textAreaTop" fmla="*/ 0 h 5691600"/>
                <a:gd name="textAreaBottom" fmla="*/ 5691960 h 5691600"/>
              </a:gdLst>
              <a:ahLst/>
              <a:rect l="textAreaLeft" t="textAreaTop" r="textAreaRight" b="textAreaBottom"/>
              <a:pathLst>
                <a:path w="10252025" h="10252025">
                  <a:moveTo>
                    <a:pt x="0" y="0"/>
                  </a:moveTo>
                  <a:lnTo>
                    <a:pt x="10252025" y="0"/>
                  </a:lnTo>
                  <a:lnTo>
                    <a:pt x="10252025" y="10252025"/>
                  </a:lnTo>
                  <a:lnTo>
                    <a:pt x="0" y="1025202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7"/>
          <p:cNvGrpSpPr/>
          <p:nvPr/>
        </p:nvGrpSpPr>
        <p:grpSpPr>
          <a:xfrm>
            <a:off x="10242720" y="5016600"/>
            <a:ext cx="7440480" cy="4669200"/>
            <a:chOff x="10242720" y="5016600"/>
            <a:chExt cx="7440480" cy="4669200"/>
          </a:xfrm>
        </p:grpSpPr>
        <p:sp>
          <p:nvSpPr>
            <p:cNvPr id="273" name="TextBox 8"/>
            <p:cNvSpPr/>
            <p:nvPr/>
          </p:nvSpPr>
          <p:spPr>
            <a:xfrm>
              <a:off x="10245600" y="5016600"/>
              <a:ext cx="728496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15968"/>
                  </a:solidFill>
                  <a:latin typeface="Klein Bold"/>
                  <a:ea typeface="Arial"/>
                </a:rPr>
                <a:t>Министерством образования создана горячая линия по организации тестирования иностранных граждан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15968"/>
                  </a:solidFill>
                  <a:latin typeface="Klein Bold"/>
                  <a:ea typeface="Arial"/>
                </a:rPr>
                <a:t>в Самарской обла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9"/>
            <p:cNvSpPr/>
            <p:nvPr/>
          </p:nvSpPr>
          <p:spPr>
            <a:xfrm>
              <a:off x="10242720" y="6845040"/>
              <a:ext cx="7440480" cy="28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690480" indent="-344520">
                <a:lnSpc>
                  <a:spcPts val="4473"/>
                </a:lnSpc>
                <a:buClr>
                  <a:srgbClr val="37609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6092"/>
                  </a:solidFill>
                  <a:latin typeface="Helios"/>
                  <a:ea typeface="Arial"/>
                </a:rPr>
                <a:t>с 9:00 до 18:00 (понедельник – пятница) по телефонам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0480" indent="-344520">
                <a:lnSpc>
                  <a:spcPts val="4473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376092"/>
                  </a:solidFill>
                  <a:latin typeface="Arial"/>
                  <a:ea typeface="Arial"/>
                </a:rPr>
                <a:t>(846) 333-56-7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0480" indent="-344520">
                <a:lnSpc>
                  <a:spcPts val="4473"/>
                </a:lnSpc>
                <a:buClr>
                  <a:srgbClr val="37609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6092"/>
                  </a:solidFill>
                  <a:latin typeface="Helios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376092"/>
                  </a:solidFill>
                  <a:latin typeface="Arial"/>
                  <a:ea typeface="Arial"/>
                </a:rPr>
                <a:t>(846) 333-75-0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0480" indent="-344520">
                <a:lnSpc>
                  <a:spcPts val="4473"/>
                </a:lnSpc>
                <a:buClr>
                  <a:srgbClr val="37609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Picture 2" descr="C:\Users\KonevDE\Desktop\orel_logo-big.png"/>
          <p:cNvPicPr/>
          <p:nvPr/>
        </p:nvPicPr>
        <p:blipFill>
          <a:blip r:embed="rId3"/>
          <a:stretch/>
        </p:blipFill>
        <p:spPr>
          <a:xfrm>
            <a:off x="2133720" y="571680"/>
            <a:ext cx="3884400" cy="328284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2"/>
          <p:cNvGrpSpPr/>
          <p:nvPr/>
        </p:nvGrpSpPr>
        <p:grpSpPr>
          <a:xfrm>
            <a:off x="10756440" y="-1137600"/>
            <a:ext cx="6824880" cy="7124760"/>
            <a:chOff x="10756440" y="-1137600"/>
            <a:chExt cx="6824880" cy="7124760"/>
          </a:xfrm>
        </p:grpSpPr>
        <p:sp>
          <p:nvSpPr>
            <p:cNvPr id="277" name="Freeform 3"/>
            <p:cNvSpPr/>
            <p:nvPr/>
          </p:nvSpPr>
          <p:spPr>
            <a:xfrm rot="20398800">
              <a:off x="11573640" y="-420840"/>
              <a:ext cx="5190120" cy="5691600"/>
            </a:xfrm>
            <a:custGeom>
              <a:avLst/>
              <a:gdLst>
                <a:gd name="textAreaLeft" fmla="*/ 0 w 5190120"/>
                <a:gd name="textAreaRight" fmla="*/ 5190480 w 5190120"/>
                <a:gd name="textAreaTop" fmla="*/ 0 h 5691600"/>
                <a:gd name="textAreaBottom" fmla="*/ 5691960 h 5691600"/>
              </a:gdLst>
              <a:ahLst/>
              <a:rect l="textAreaLeft" t="textAreaTop" r="textAreaRight" b="textAreaBottom"/>
              <a:pathLst>
                <a:path w="10252025" h="10252025">
                  <a:moveTo>
                    <a:pt x="0" y="0"/>
                  </a:moveTo>
                  <a:lnTo>
                    <a:pt x="10252025" y="0"/>
                  </a:lnTo>
                  <a:lnTo>
                    <a:pt x="10252025" y="10252025"/>
                  </a:lnTo>
                  <a:lnTo>
                    <a:pt x="0" y="1025202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>
                <a:alphaModFix amt="31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"/>
            <p:cNvSpPr/>
            <p:nvPr/>
          </p:nvSpPr>
          <p:spPr>
            <a:xfrm>
              <a:off x="11506320" y="-495360"/>
              <a:ext cx="5190120" cy="5691600"/>
            </a:xfrm>
            <a:custGeom>
              <a:avLst/>
              <a:gdLst>
                <a:gd name="textAreaLeft" fmla="*/ 0 w 5190120"/>
                <a:gd name="textAreaRight" fmla="*/ 5190480 w 5190120"/>
                <a:gd name="textAreaTop" fmla="*/ 0 h 5691600"/>
                <a:gd name="textAreaBottom" fmla="*/ 5691960 h 5691600"/>
              </a:gdLst>
              <a:ahLst/>
              <a:rect l="textAreaLeft" t="textAreaTop" r="textAreaRight" b="textAreaBottom"/>
              <a:pathLst>
                <a:path w="10252025" h="10252025">
                  <a:moveTo>
                    <a:pt x="0" y="0"/>
                  </a:moveTo>
                  <a:lnTo>
                    <a:pt x="10252025" y="0"/>
                  </a:lnTo>
                  <a:lnTo>
                    <a:pt x="10252025" y="10252025"/>
                  </a:lnTo>
                  <a:lnTo>
                    <a:pt x="0" y="1025202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7"/>
          <p:cNvGrpSpPr/>
          <p:nvPr/>
        </p:nvGrpSpPr>
        <p:grpSpPr>
          <a:xfrm>
            <a:off x="838080" y="4915080"/>
            <a:ext cx="7440840" cy="2001600"/>
            <a:chOff x="838080" y="4915080"/>
            <a:chExt cx="7440840" cy="2001600"/>
          </a:xfrm>
        </p:grpSpPr>
        <p:sp>
          <p:nvSpPr>
            <p:cNvPr id="280" name="TextBox 8"/>
            <p:cNvSpPr/>
            <p:nvPr/>
          </p:nvSpPr>
          <p:spPr>
            <a:xfrm>
              <a:off x="993600" y="4915080"/>
              <a:ext cx="72853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9"/>
            <p:cNvSpPr/>
            <p:nvPr/>
          </p:nvSpPr>
          <p:spPr>
            <a:xfrm>
              <a:off x="838080" y="6393600"/>
              <a:ext cx="74408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690480" indent="-344520">
                <a:lnSpc>
                  <a:spcPts val="4473"/>
                </a:lnSpc>
                <a:buClr>
                  <a:srgbClr val="2a2e3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Picture 2" descr=""/>
          <p:cNvPicPr/>
          <p:nvPr/>
        </p:nvPicPr>
        <p:blipFill>
          <a:blip r:embed="rId6"/>
          <a:stretch/>
        </p:blipFill>
        <p:spPr>
          <a:xfrm>
            <a:off x="12496680" y="1322280"/>
            <a:ext cx="3353040" cy="183996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1"/>
          <p:cNvSpPr/>
          <p:nvPr/>
        </p:nvSpPr>
        <p:spPr>
          <a:xfrm>
            <a:off x="503280" y="5038560"/>
            <a:ext cx="83534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Klein Bold"/>
              </a:rPr>
              <a:t>Минпросвещения создана горячая л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Klein Bold"/>
              </a:rPr>
              <a:t>в целях организации разъяснения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Klein Bold"/>
              </a:rPr>
              <a:t>в рамках приказов №</a:t>
            </a:r>
            <a:r>
              <a:rPr b="1" lang="en-US" sz="2800" spc="-1" strike="noStrike">
                <a:solidFill>
                  <a:srgbClr val="215968"/>
                </a:solidFill>
                <a:latin typeface="Klein Bold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Klein Bold"/>
              </a:rPr>
              <a:t>170 и №</a:t>
            </a:r>
            <a:r>
              <a:rPr b="1" lang="en-US" sz="2800" spc="-1" strike="noStrike">
                <a:solidFill>
                  <a:srgbClr val="215968"/>
                </a:solidFill>
                <a:latin typeface="Klein Bold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Klein Bold"/>
              </a:rPr>
              <a:t>1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Helios"/>
                <a:ea typeface="Arial"/>
              </a:rPr>
              <a:t>  </a:t>
            </a:r>
            <a:r>
              <a:rPr b="0" lang="ru-RU" sz="2800" spc="-1" strike="noStrike">
                <a:solidFill>
                  <a:srgbClr val="376092"/>
                </a:solidFill>
                <a:latin typeface="Helios"/>
                <a:ea typeface="Arial"/>
              </a:rPr>
              <a:t>с 9:00 до 18:00 по московскому времени (понедельник – пятниц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473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Helios"/>
                <a:ea typeface="Arial"/>
              </a:rPr>
              <a:t>  </a:t>
            </a:r>
            <a:r>
              <a:rPr b="0" lang="ru-RU" sz="2800" spc="-1" strike="noStrike">
                <a:solidFill>
                  <a:srgbClr val="376092"/>
                </a:solidFill>
                <a:latin typeface="Helios"/>
                <a:ea typeface="Arial"/>
              </a:rPr>
              <a:t>телефон (495) 587-01-10, доб. 3291</a:t>
            </a:r>
            <a:r>
              <a:rPr b="0" lang="en-US" sz="2800" spc="-1" strike="noStrike">
                <a:solidFill>
                  <a:srgbClr val="376092"/>
                </a:solidFill>
                <a:latin typeface="Helios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473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Helios"/>
                <a:ea typeface="Arial"/>
              </a:rPr>
              <a:t>  </a:t>
            </a:r>
            <a:r>
              <a:rPr b="0" lang="ru-RU" sz="2800" spc="-1" strike="noStrike">
                <a:solidFill>
                  <a:srgbClr val="376092"/>
                </a:solidFill>
                <a:latin typeface="Helios"/>
                <a:ea typeface="Arial"/>
              </a:rPr>
              <a:t>адрес электронной поч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473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Helios"/>
                <a:ea typeface="Arial"/>
              </a:rPr>
              <a:t>zasyadko-vk@edu.gov.ru</a:t>
            </a:r>
            <a:r>
              <a:rPr b="0" lang="ru-RU" sz="2800" spc="-1" strike="noStrike">
                <a:solidFill>
                  <a:srgbClr val="215968"/>
                </a:solidFill>
                <a:latin typeface="Helio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2866760" y="5681520"/>
            <a:ext cx="1622520" cy="162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087800" y="5621400"/>
            <a:ext cx="16272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6"/>
          <p:cNvGrpSpPr/>
          <p:nvPr/>
        </p:nvGrpSpPr>
        <p:grpSpPr>
          <a:xfrm>
            <a:off x="838080" y="419040"/>
            <a:ext cx="14878080" cy="2938680"/>
            <a:chOff x="838080" y="419040"/>
            <a:chExt cx="14878080" cy="2938680"/>
          </a:xfrm>
        </p:grpSpPr>
        <p:sp>
          <p:nvSpPr>
            <p:cNvPr id="60" name="TextBox 7"/>
            <p:cNvSpPr/>
            <p:nvPr/>
          </p:nvSpPr>
          <p:spPr>
            <a:xfrm>
              <a:off x="1347120" y="419040"/>
              <a:ext cx="14369040" cy="21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2a2e3a"/>
                  </a:solidFill>
                  <a:latin typeface="Klein Bold"/>
                  <a:ea typeface="Arial"/>
                </a:rPr>
                <a:t>Изменения в ст. 67 и 78 Закона от 29.12.2012 №273-ФЗ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2a2e3a"/>
                  </a:solidFill>
                  <a:latin typeface="Klein Bold"/>
                  <a:ea typeface="Arial"/>
                </a:rPr>
                <a:t>«Об образовании в Российской Федерации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2a2e3a"/>
                  </a:solidFill>
                  <a:latin typeface="Klein Bold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2a2e3a"/>
                  </a:solidFill>
                  <a:latin typeface="Klein Bold"/>
                  <a:ea typeface="Arial"/>
                </a:rPr>
                <a:t>Приказы Минпросвещения РФ</a:t>
              </a:r>
              <a:r>
                <a:rPr b="1" lang="ru-RU" sz="3600" spc="-1" strike="noStrike">
                  <a:solidFill>
                    <a:srgbClr val="718bab"/>
                  </a:solidFill>
                  <a:latin typeface="Klein Bold"/>
                  <a:ea typeface="Arial"/>
                </a:rPr>
                <a:t> </a:t>
              </a:r>
              <a:r>
                <a:rPr b="0" lang="ru-RU" sz="3600" spc="-1" strike="noStrike">
                  <a:solidFill>
                    <a:srgbClr val="2a2e3a"/>
                  </a:solidFill>
                  <a:latin typeface="Helios"/>
                  <a:ea typeface="Arial"/>
                </a:rPr>
                <a:t>от 04.03.2025 </a:t>
              </a:r>
              <a:r>
                <a:rPr b="1" lang="ru-RU" sz="3600" spc="-1" strike="noStrike">
                  <a:solidFill>
                    <a:srgbClr val="2a2e3a"/>
                  </a:solidFill>
                  <a:latin typeface="Klein Bold"/>
                  <a:ea typeface="Arial"/>
                </a:rPr>
                <a:t>№ 170 и 17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8"/>
            <p:cNvSpPr/>
            <p:nvPr/>
          </p:nvSpPr>
          <p:spPr>
            <a:xfrm>
              <a:off x="838080" y="2513160"/>
              <a:ext cx="140652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4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10"/>
          <p:cNvSpPr/>
          <p:nvPr/>
        </p:nvSpPr>
        <p:spPr>
          <a:xfrm>
            <a:off x="5861160" y="5264280"/>
            <a:ext cx="28954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2e3a"/>
                </a:solidFill>
                <a:latin typeface="Helios"/>
                <a:ea typeface="Arial"/>
              </a:rPr>
              <a:t>Порядок приема на обучение по образовательным программам начального общего, основного общего и средне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8991720" y="4406760"/>
            <a:ext cx="3875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Helios"/>
                <a:ea typeface="Arial"/>
                <a:hlinkClick r:id="rId3"/>
              </a:rPr>
              <a:t>Порядок приема и проведения в государственной и муниципальной общеобразовательной организации тестирования на знание русского языка, достаточного для освоения образовательных программ начального общего, основного общего и среднего общего образования, иностранных граждан и лиц без гражд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0" y="8980560"/>
            <a:ext cx="18288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4"/>
          <a:stretch/>
        </p:blipFill>
        <p:spPr>
          <a:xfrm>
            <a:off x="490680" y="2919240"/>
            <a:ext cx="4767120" cy="669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5"/>
          <a:stretch/>
        </p:blipFill>
        <p:spPr>
          <a:xfrm>
            <a:off x="13258800" y="3156120"/>
            <a:ext cx="4734000" cy="6678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762120" y="3011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"/>
          <p:cNvPicPr/>
          <p:nvPr/>
        </p:nvPicPr>
        <p:blipFill>
          <a:blip r:embed="rId6"/>
          <a:stretch/>
        </p:blipFill>
        <p:spPr>
          <a:xfrm>
            <a:off x="13411080" y="2919240"/>
            <a:ext cx="1212840" cy="1603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6400800" y="910584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2e3a"/>
                </a:solidFill>
                <a:latin typeface="Klein Bold"/>
                <a:ea typeface="Arial"/>
              </a:rPr>
              <a:t>* вступают в силу с 01.04.20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"/>
          <p:cNvPicPr/>
          <p:nvPr/>
        </p:nvPicPr>
        <p:blipFill>
          <a:blip r:embed="rId7"/>
          <a:stretch/>
        </p:blipFill>
        <p:spPr>
          <a:xfrm>
            <a:off x="5410080" y="8801280"/>
            <a:ext cx="884520" cy="12492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6" descr=""/>
          <p:cNvPicPr/>
          <p:nvPr/>
        </p:nvPicPr>
        <p:blipFill>
          <a:blip r:embed="rId8"/>
          <a:stretch/>
        </p:blipFill>
        <p:spPr>
          <a:xfrm>
            <a:off x="14538240" y="0"/>
            <a:ext cx="37735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3"/>
          <p:cNvSpPr/>
          <p:nvPr/>
        </p:nvSpPr>
        <p:spPr>
          <a:xfrm>
            <a:off x="8508960" y="6276960"/>
            <a:ext cx="1620720" cy="162072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1621594" h="1621594">
                <a:moveTo>
                  <a:pt x="0" y="0"/>
                </a:moveTo>
                <a:lnTo>
                  <a:pt x="1621594" y="0"/>
                </a:lnTo>
                <a:lnTo>
                  <a:pt x="1621594" y="1621593"/>
                </a:lnTo>
                <a:lnTo>
                  <a:pt x="0" y="162159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10960200" y="6086520"/>
            <a:ext cx="5584680" cy="1401840"/>
            <a:chOff x="10960200" y="6086520"/>
            <a:chExt cx="5584680" cy="1401840"/>
          </a:xfrm>
        </p:grpSpPr>
        <p:sp>
          <p:nvSpPr>
            <p:cNvPr id="74" name="TextBox 5"/>
            <p:cNvSpPr/>
            <p:nvPr/>
          </p:nvSpPr>
          <p:spPr>
            <a:xfrm>
              <a:off x="10960200" y="6086520"/>
              <a:ext cx="55846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6"/>
            <p:cNvSpPr/>
            <p:nvPr/>
          </p:nvSpPr>
          <p:spPr>
            <a:xfrm>
              <a:off x="10960200" y="7066080"/>
              <a:ext cx="5584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8"/>
          <p:cNvSpPr/>
          <p:nvPr/>
        </p:nvSpPr>
        <p:spPr>
          <a:xfrm>
            <a:off x="0" y="0"/>
            <a:ext cx="9410760" cy="10287000"/>
          </a:xfrm>
          <a:custGeom>
            <a:avLst/>
            <a:gdLst>
              <a:gd name="textAreaLeft" fmla="*/ 0 w 9410760"/>
              <a:gd name="textAreaRight" fmla="*/ 9411120 w 9410760"/>
              <a:gd name="textAreaTop" fmla="*/ 0 h 10287000"/>
              <a:gd name="textAreaBottom" fmla="*/ 10287360 h 10287000"/>
            </a:gdLst>
            <a:ahLst/>
            <a:rect l="textAreaLeft" t="textAreaTop" r="textAreaRight" b="textAreaBottom"/>
            <a:pathLst>
              <a:path w="2478633" h="2709333">
                <a:moveTo>
                  <a:pt x="0" y="0"/>
                </a:moveTo>
                <a:lnTo>
                  <a:pt x="2478633" y="0"/>
                </a:lnTo>
                <a:lnTo>
                  <a:pt x="2478633" y="2709333"/>
                </a:lnTo>
                <a:lnTo>
                  <a:pt x="0" y="27093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0" y="-144360"/>
            <a:ext cx="9410760" cy="10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10960200" y="2346480"/>
            <a:ext cx="5584680" cy="1400040"/>
            <a:chOff x="10960200" y="2346480"/>
            <a:chExt cx="5584680" cy="1400040"/>
          </a:xfrm>
        </p:grpSpPr>
        <p:sp>
          <p:nvSpPr>
            <p:cNvPr id="79" name="TextBox 14"/>
            <p:cNvSpPr/>
            <p:nvPr/>
          </p:nvSpPr>
          <p:spPr>
            <a:xfrm>
              <a:off x="10960200" y="2346480"/>
              <a:ext cx="55846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5"/>
            <p:cNvSpPr/>
            <p:nvPr/>
          </p:nvSpPr>
          <p:spPr>
            <a:xfrm>
              <a:off x="10960200" y="3324240"/>
              <a:ext cx="5584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Прямоугольник: скругленные углы 41"/>
          <p:cNvSpPr/>
          <p:nvPr/>
        </p:nvSpPr>
        <p:spPr>
          <a:xfrm>
            <a:off x="10210680" y="2171880"/>
            <a:ext cx="7315200" cy="6078240"/>
          </a:xfrm>
          <a:prstGeom prst="roundRect">
            <a:avLst>
              <a:gd name="adj" fmla="val 6449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Важно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В локальный акт, регламентирующий прием в образовательную организацию, необходимо в срок до 01.04.2025 внести изменения в соответствии с приказом Минпросвещения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от 04.03.2025 № 171 и разместить его на сайте образовательной организации в разделе «Прием в общеобразовательную организац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396720" y="266760"/>
            <a:ext cx="166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 Black"/>
              </a:rPr>
              <a:t>Порядок приема в государственные и муниципальные образовательные организации Самарской обла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 Black"/>
              </a:rPr>
              <a:t>реализующие программы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7" descr=""/>
          <p:cNvPicPr/>
          <p:nvPr/>
        </p:nvPicPr>
        <p:blipFill>
          <a:blip r:embed="rId2"/>
          <a:stretch/>
        </p:blipFill>
        <p:spPr>
          <a:xfrm>
            <a:off x="5214960" y="8429760"/>
            <a:ext cx="4357800" cy="1830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5327640" y="853128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менения в административный регламент будут внесены в срок до 20.04.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33520" y="1714680"/>
            <a:ext cx="80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5127480" y="2019240"/>
            <a:ext cx="4475160" cy="633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6" descr=""/>
          <p:cNvPicPr/>
          <p:nvPr/>
        </p:nvPicPr>
        <p:blipFill>
          <a:blip r:embed="rId4"/>
          <a:srcRect l="36655" t="23391" r="34571" b="12963"/>
          <a:stretch/>
        </p:blipFill>
        <p:spPr>
          <a:xfrm>
            <a:off x="-14400" y="2019240"/>
            <a:ext cx="5025960" cy="632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8" descr=""/>
          <p:cNvPicPr/>
          <p:nvPr/>
        </p:nvPicPr>
        <p:blipFill>
          <a:blip r:embed="rId5"/>
          <a:stretch/>
        </p:blipFill>
        <p:spPr>
          <a:xfrm>
            <a:off x="12168360" y="2176560"/>
            <a:ext cx="75564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"/>
          <p:cNvPicPr/>
          <p:nvPr/>
        </p:nvPicPr>
        <p:blipFill>
          <a:blip r:embed="rId6"/>
          <a:stretch/>
        </p:blipFill>
        <p:spPr>
          <a:xfrm>
            <a:off x="0" y="8501040"/>
            <a:ext cx="4910040" cy="1719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24"/>
          <p:cNvSpPr/>
          <p:nvPr/>
        </p:nvSpPr>
        <p:spPr>
          <a:xfrm>
            <a:off x="71280" y="850104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Приказ Минпросвещения России _x000b_от 02.09.2020  № 458  «Об утверждении Порядка приема на обучение _x000b_по образовательным программам начального общего, основного общего и среднего обще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3"/>
          <p:cNvSpPr/>
          <p:nvPr/>
        </p:nvSpPr>
        <p:spPr>
          <a:xfrm>
            <a:off x="8508960" y="6276960"/>
            <a:ext cx="1620720" cy="162072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1621594" h="1621594">
                <a:moveTo>
                  <a:pt x="0" y="0"/>
                </a:moveTo>
                <a:lnTo>
                  <a:pt x="1621594" y="0"/>
                </a:lnTo>
                <a:lnTo>
                  <a:pt x="1621594" y="1621593"/>
                </a:lnTo>
                <a:lnTo>
                  <a:pt x="0" y="162159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0960200" y="6086520"/>
            <a:ext cx="5584680" cy="1401840"/>
            <a:chOff x="10960200" y="6086520"/>
            <a:chExt cx="5584680" cy="1401840"/>
          </a:xfrm>
        </p:grpSpPr>
        <p:sp>
          <p:nvSpPr>
            <p:cNvPr id="93" name="TextBox 5"/>
            <p:cNvSpPr/>
            <p:nvPr/>
          </p:nvSpPr>
          <p:spPr>
            <a:xfrm>
              <a:off x="10960200" y="6086520"/>
              <a:ext cx="55846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6"/>
            <p:cNvSpPr/>
            <p:nvPr/>
          </p:nvSpPr>
          <p:spPr>
            <a:xfrm>
              <a:off x="10960200" y="7066080"/>
              <a:ext cx="5584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7"/>
          <p:cNvGrpSpPr/>
          <p:nvPr/>
        </p:nvGrpSpPr>
        <p:grpSpPr>
          <a:xfrm>
            <a:off x="0" y="0"/>
            <a:ext cx="9410760" cy="10287000"/>
            <a:chOff x="0" y="0"/>
            <a:chExt cx="9410760" cy="10287000"/>
          </a:xfrm>
        </p:grpSpPr>
        <p:sp>
          <p:nvSpPr>
            <p:cNvPr id="96" name="Freeform 8"/>
            <p:cNvSpPr/>
            <p:nvPr/>
          </p:nvSpPr>
          <p:spPr>
            <a:xfrm>
              <a:off x="0" y="142560"/>
              <a:ext cx="9410760" cy="10144440"/>
            </a:xfrm>
            <a:custGeom>
              <a:avLst/>
              <a:gdLst>
                <a:gd name="textAreaLeft" fmla="*/ 0 w 9410760"/>
                <a:gd name="textAreaRight" fmla="*/ 9411120 w 9410760"/>
                <a:gd name="textAreaTop" fmla="*/ 0 h 10144440"/>
                <a:gd name="textAreaBottom" fmla="*/ 10144800 h 10144440"/>
              </a:gdLst>
              <a:ahLst/>
              <a:rect l="textAreaLeft" t="textAreaTop" r="textAreaRight" b="textAreaBottom"/>
              <a:pathLst>
                <a:path w="2478633" h="2709333">
                  <a:moveTo>
                    <a:pt x="0" y="0"/>
                  </a:moveTo>
                  <a:lnTo>
                    <a:pt x="2478633" y="0"/>
                  </a:lnTo>
                  <a:lnTo>
                    <a:pt x="2478633" y="2709333"/>
                  </a:lnTo>
                  <a:lnTo>
                    <a:pt x="0" y="27093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9"/>
            <p:cNvSpPr/>
            <p:nvPr/>
          </p:nvSpPr>
          <p:spPr>
            <a:xfrm>
              <a:off x="0" y="0"/>
              <a:ext cx="9410760" cy="10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rm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3"/>
          <p:cNvGrpSpPr/>
          <p:nvPr/>
        </p:nvGrpSpPr>
        <p:grpSpPr>
          <a:xfrm>
            <a:off x="10960200" y="2346480"/>
            <a:ext cx="5584680" cy="1400040"/>
            <a:chOff x="10960200" y="2346480"/>
            <a:chExt cx="5584680" cy="1400040"/>
          </a:xfrm>
        </p:grpSpPr>
        <p:sp>
          <p:nvSpPr>
            <p:cNvPr id="99" name="TextBox 14"/>
            <p:cNvSpPr/>
            <p:nvPr/>
          </p:nvSpPr>
          <p:spPr>
            <a:xfrm>
              <a:off x="10960200" y="2346480"/>
              <a:ext cx="55846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5"/>
            <p:cNvSpPr/>
            <p:nvPr/>
          </p:nvSpPr>
          <p:spPr>
            <a:xfrm>
              <a:off x="10960200" y="3324240"/>
              <a:ext cx="5584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Прямоугольник: скругленные углы 41"/>
          <p:cNvSpPr/>
          <p:nvPr/>
        </p:nvSpPr>
        <p:spPr>
          <a:xfrm>
            <a:off x="10363320" y="1714680"/>
            <a:ext cx="7315200" cy="6078240"/>
          </a:xfrm>
          <a:prstGeom prst="roundRect">
            <a:avLst>
              <a:gd name="adj" fmla="val 6449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Родители через ЕПГУ, ГИС АСУ РСО, через операторов почтовой связи  подают заявление о приеме на обучение и предъявля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копии документов, подтверждающих родство заявите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копии документов, подтверждающих законность нахождения ребенка и его законного (законных) представителя (представителей) на территории Российской Федерации (действительные вид на жительство, либо разрешение на временное проживание, либо разрешение на временное проживание в целях получения образования, либо визу и (или) миграционную карту, либо иные предусмотренные федеральным законом или международным договором Российской Федерации документы, подтверждающие право иностранного гражданина или лица без гражданства на пребывание (проживание) в Российской Федераци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копии документов, подтверждающих прохождение государственной дактилоскопической регистрации ребе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копии документов, подтверждающих изучение русского языка ребенком в образовательных организациях иностранного (иностранных) государства (государств) (со 2 по 11 класс) (при наличии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копии документов, удостоверяющих личность   ребе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копии документов, подтверждающих присвоение родителю ИН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копия СНИЛС родителя (при наличии), а также СНИЛС ребенка (при наличи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медицинское заключение об отсутствии у ребенка инфекционных заболеваний, представляющих опасность для окружающи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копии документов, подтверждающих осуществление родителем (законным представителем) трудовой деятельности (при налич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!!! необходим адрес электронной почты заяв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533520" y="67946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 Black"/>
              </a:rPr>
              <a:t>Заявление и перечень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396720" y="266760"/>
            <a:ext cx="1667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Arial Black"/>
              </a:rPr>
              <a:t>Подача документов на обучение</a:t>
            </a:r>
            <a:r>
              <a:rPr b="0" lang="ru-RU" sz="2800" spc="-1" strike="noStrike">
                <a:solidFill>
                  <a:srgbClr val="2a2e3a"/>
                </a:solidFill>
                <a:latin typeface="Helios"/>
                <a:ea typeface="Helios"/>
              </a:rPr>
              <a:t> </a:t>
            </a:r>
            <a:r>
              <a:rPr b="0" lang="ru-RU" sz="2800" spc="-1" strike="noStrike">
                <a:solidFill>
                  <a:srgbClr val="215968"/>
                </a:solidFill>
                <a:latin typeface="Arial Black"/>
              </a:rPr>
              <a:t>в государственных и муниципальных общеобразовательных организациях для иностранных гражд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Arial Black"/>
              </a:rPr>
              <a:t>и лиц без гражд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10896480" y="8572680"/>
            <a:ext cx="678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е документы представляются на русском языке или вместе с заверенным в установленном порядке переводом на 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2"/>
          <a:stretch/>
        </p:blipFill>
        <p:spPr>
          <a:xfrm>
            <a:off x="0" y="8567640"/>
            <a:ext cx="94107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3"/>
          <a:stretch/>
        </p:blipFill>
        <p:spPr>
          <a:xfrm>
            <a:off x="396720" y="8802720"/>
            <a:ext cx="884520" cy="12492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1643040" y="880272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совершеннолетние обучающиеся, ранее проходившие обучение в общеобразовательной организации по программам 1-11 классов, не проходят тестирование на знание русск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533520" y="1714680"/>
            <a:ext cx="8229600" cy="49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одача документов осуществля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 Bold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Helios Bold"/>
                <a:ea typeface="Arial"/>
              </a:rPr>
              <a:t>в электронной форме посредством Госуслуг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 Bold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Helios Bold"/>
                <a:ea typeface="Arial"/>
              </a:rPr>
              <a:t>(для имеющих СНИЛС)</a:t>
            </a:r>
            <a:r>
              <a:rPr b="0" lang="en-US" sz="2800" spc="-1" strike="noStrike">
                <a:solidFill>
                  <a:srgbClr val="000000"/>
                </a:solidFill>
                <a:latin typeface="Helios Bold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 Bold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Helios Bold"/>
                <a:ea typeface="Arial"/>
              </a:rPr>
              <a:t>с использованием ГИС АСУ РСО</a:t>
            </a:r>
            <a:r>
              <a:rPr b="0" lang="en-US" sz="2800" spc="-1" strike="noStrike">
                <a:solidFill>
                  <a:srgbClr val="000000"/>
                </a:solidFill>
                <a:latin typeface="Helios Bold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 Bold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Helios Bold"/>
                <a:ea typeface="Arial"/>
              </a:rPr>
              <a:t>через операторов почтовый связи общего пользования заказным письмом с уведомлением о вруч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8" descr=""/>
          <p:cNvPicPr/>
          <p:nvPr/>
        </p:nvPicPr>
        <p:blipFill>
          <a:blip r:embed="rId4"/>
          <a:stretch/>
        </p:blipFill>
        <p:spPr>
          <a:xfrm>
            <a:off x="9677520" y="8648640"/>
            <a:ext cx="8841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0" y="0"/>
            <a:ext cx="18288000" cy="2340000"/>
            <a:chOff x="0" y="0"/>
            <a:chExt cx="18288000" cy="2340000"/>
          </a:xfrm>
        </p:grpSpPr>
        <p:sp>
          <p:nvSpPr>
            <p:cNvPr id="111" name="Freeform 3"/>
            <p:cNvSpPr/>
            <p:nvPr/>
          </p:nvSpPr>
          <p:spPr>
            <a:xfrm>
              <a:off x="0" y="228240"/>
              <a:ext cx="18288000" cy="2111760"/>
            </a:xfrm>
            <a:custGeom>
              <a:avLst/>
              <a:gdLst>
                <a:gd name="textAreaLeft" fmla="*/ 0 w 18288000"/>
                <a:gd name="textAreaRight" fmla="*/ 18288360 w 18288000"/>
                <a:gd name="textAreaTop" fmla="*/ 0 h 2111760"/>
                <a:gd name="textAreaBottom" fmla="*/ 2112120 h 2111760"/>
              </a:gdLst>
              <a:ahLst/>
              <a:rect l="textAreaLeft" t="textAreaTop" r="textAreaRight" b="textAreaBottom"/>
              <a:pathLst>
                <a:path w="4816592" h="616426">
                  <a:moveTo>
                    <a:pt x="0" y="0"/>
                  </a:moveTo>
                  <a:lnTo>
                    <a:pt x="4816592" y="0"/>
                  </a:lnTo>
                  <a:lnTo>
                    <a:pt x="4816592" y="616426"/>
                  </a:lnTo>
                  <a:lnTo>
                    <a:pt x="0" y="6164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53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"/>
            <p:cNvSpPr/>
            <p:nvPr/>
          </p:nvSpPr>
          <p:spPr>
            <a:xfrm>
              <a:off x="0" y="0"/>
              <a:ext cx="18288000" cy="23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rmAutofit/>
            </a:bodyPr>
            <a:p>
              <a:pPr algn="ctr"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1346040" y="3686040"/>
            <a:ext cx="535788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e3a"/>
                </a:solidFill>
                <a:latin typeface="Helios"/>
                <a:ea typeface="Arial"/>
              </a:rPr>
              <a:t>Особый статус имеют родители (законные представители), имеющего гражданство Белоруссии, либо являющиеся аккредитованными при МИД России сотрудниками (или их супругами) иностранных посольств, консульств, международных организаций и их представитель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7751880" y="3687840"/>
            <a:ext cx="7538760" cy="924120"/>
            <a:chOff x="7751880" y="3687840"/>
            <a:chExt cx="7538760" cy="924120"/>
          </a:xfrm>
        </p:grpSpPr>
        <p:sp>
          <p:nvSpPr>
            <p:cNvPr id="115" name="Freeform 13"/>
            <p:cNvSpPr/>
            <p:nvPr/>
          </p:nvSpPr>
          <p:spPr>
            <a:xfrm>
              <a:off x="7751880" y="3726000"/>
              <a:ext cx="414720" cy="4150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553213" h="553213">
                  <a:moveTo>
                    <a:pt x="0" y="0"/>
                  </a:moveTo>
                  <a:lnTo>
                    <a:pt x="553213" y="0"/>
                  </a:lnTo>
                  <a:lnTo>
                    <a:pt x="553213" y="553213"/>
                  </a:lnTo>
                  <a:lnTo>
                    <a:pt x="0" y="5532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4"/>
            <p:cNvSpPr/>
            <p:nvPr/>
          </p:nvSpPr>
          <p:spPr>
            <a:xfrm>
              <a:off x="8737560" y="3687840"/>
              <a:ext cx="655308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2a2e3a"/>
                  </a:solidFill>
                  <a:latin typeface="Helios"/>
                  <a:ea typeface="Arial"/>
                </a:rPr>
                <a:t>копия свидетельства о рождении ребенк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5"/>
          <p:cNvGrpSpPr/>
          <p:nvPr/>
        </p:nvGrpSpPr>
        <p:grpSpPr>
          <a:xfrm>
            <a:off x="8624880" y="4699080"/>
            <a:ext cx="7539120" cy="462240"/>
            <a:chOff x="8624880" y="4699080"/>
            <a:chExt cx="7539120" cy="462240"/>
          </a:xfrm>
        </p:grpSpPr>
        <p:sp>
          <p:nvSpPr>
            <p:cNvPr id="118" name="Freeform 16"/>
            <p:cNvSpPr/>
            <p:nvPr/>
          </p:nvSpPr>
          <p:spPr>
            <a:xfrm>
              <a:off x="8624880" y="4737240"/>
              <a:ext cx="414720" cy="41580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553213" h="553213">
                  <a:moveTo>
                    <a:pt x="0" y="0"/>
                  </a:moveTo>
                  <a:lnTo>
                    <a:pt x="553213" y="0"/>
                  </a:lnTo>
                  <a:lnTo>
                    <a:pt x="553213" y="553213"/>
                  </a:lnTo>
                  <a:lnTo>
                    <a:pt x="0" y="5532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9610560" y="4699080"/>
              <a:ext cx="65534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2a2e3a"/>
                  </a:solidFill>
                  <a:latin typeface="Helios"/>
                  <a:ea typeface="Arial"/>
                </a:rPr>
                <a:t>копия паспорт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9448920" y="5676840"/>
            <a:ext cx="7807320" cy="924120"/>
            <a:chOff x="9448920" y="5676840"/>
            <a:chExt cx="7807320" cy="924120"/>
          </a:xfrm>
        </p:grpSpPr>
        <p:sp>
          <p:nvSpPr>
            <p:cNvPr id="121" name="Freeform 19"/>
            <p:cNvSpPr/>
            <p:nvPr/>
          </p:nvSpPr>
          <p:spPr>
            <a:xfrm>
              <a:off x="9448920" y="5715000"/>
              <a:ext cx="414720" cy="4150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553213" h="553213">
                  <a:moveTo>
                    <a:pt x="0" y="0"/>
                  </a:moveTo>
                  <a:lnTo>
                    <a:pt x="553213" y="0"/>
                  </a:lnTo>
                  <a:lnTo>
                    <a:pt x="553213" y="553213"/>
                  </a:lnTo>
                  <a:lnTo>
                    <a:pt x="0" y="5532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0"/>
            <p:cNvSpPr/>
            <p:nvPr/>
          </p:nvSpPr>
          <p:spPr>
            <a:xfrm>
              <a:off x="10434600" y="5676840"/>
              <a:ext cx="682164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2a2e3a"/>
                  </a:solidFill>
                  <a:latin typeface="Helios"/>
                  <a:ea typeface="Arial"/>
                </a:rPr>
                <a:t>справка о регистрации по месту жительств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9"/>
          <p:cNvSpPr/>
          <p:nvPr/>
        </p:nvSpPr>
        <p:spPr>
          <a:xfrm>
            <a:off x="2057400" y="571680"/>
            <a:ext cx="14859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Klein Bold"/>
                <a:ea typeface="Arial"/>
              </a:rPr>
              <a:t>Иностранные граждане с особым статус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9"/>
          <p:cNvSpPr/>
          <p:nvPr/>
        </p:nvSpPr>
        <p:spPr>
          <a:xfrm>
            <a:off x="533520" y="571680"/>
            <a:ext cx="1143000" cy="1638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38000"/>
              <a:gd name="textAreaBottom" fmla="*/ 1638360 h 1638000"/>
            </a:gdLst>
            <a:ahLst/>
            <a:rect l="textAreaLeft" t="textAreaTop" r="textAreaRight" b="textAreaBottom"/>
            <a:pathLst>
              <a:path w="880367" h="1247944">
                <a:moveTo>
                  <a:pt x="0" y="0"/>
                </a:moveTo>
                <a:lnTo>
                  <a:pt x="880367" y="0"/>
                </a:lnTo>
                <a:lnTo>
                  <a:pt x="880367" y="1247944"/>
                </a:lnTo>
                <a:lnTo>
                  <a:pt x="0" y="12479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5"/>
          <a:stretch/>
        </p:blipFill>
        <p:spPr>
          <a:xfrm>
            <a:off x="5413320" y="7385040"/>
            <a:ext cx="1822680" cy="18162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6"/>
          <p:cNvSpPr/>
          <p:nvPr/>
        </p:nvSpPr>
        <p:spPr>
          <a:xfrm>
            <a:off x="7524720" y="787716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ios"/>
                <a:ea typeface="Arial"/>
              </a:rPr>
              <a:t>Если заявление о приеме на обучение подано в электронном виде, запрещается требовать копии документов за исключением копий или оригиналов документов, подтверждение которых в электронном виде не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8"/>
          <p:cNvSpPr/>
          <p:nvPr/>
        </p:nvSpPr>
        <p:spPr>
          <a:xfrm>
            <a:off x="6553080" y="2973240"/>
            <a:ext cx="10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"/>
                <a:ea typeface="Arial"/>
              </a:rPr>
              <a:t>Такие граждане предоставляют следующие докум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-9360"/>
            <a:ext cx="7051680" cy="10296360"/>
            <a:chOff x="0" y="-9360"/>
            <a:chExt cx="7051680" cy="10296360"/>
          </a:xfrm>
        </p:grpSpPr>
        <p:sp>
          <p:nvSpPr>
            <p:cNvPr id="129" name="Freeform 3"/>
            <p:cNvSpPr/>
            <p:nvPr/>
          </p:nvSpPr>
          <p:spPr>
            <a:xfrm>
              <a:off x="0" y="133200"/>
              <a:ext cx="7051680" cy="10153800"/>
            </a:xfrm>
            <a:custGeom>
              <a:avLst/>
              <a:gdLst>
                <a:gd name="textAreaLeft" fmla="*/ 0 w 7051680"/>
                <a:gd name="textAreaRight" fmla="*/ 7052040 w 7051680"/>
                <a:gd name="textAreaTop" fmla="*/ 0 h 10153800"/>
                <a:gd name="textAreaBottom" fmla="*/ 10154160 h 10153800"/>
              </a:gdLst>
              <a:ahLst/>
              <a:rect l="textAreaLeft" t="textAreaTop" r="textAreaRight" b="textAreaBottom"/>
              <a:pathLst>
                <a:path w="1857156" h="2711669">
                  <a:moveTo>
                    <a:pt x="0" y="0"/>
                  </a:moveTo>
                  <a:lnTo>
                    <a:pt x="1857156" y="0"/>
                  </a:lnTo>
                  <a:lnTo>
                    <a:pt x="1857156" y="2711669"/>
                  </a:lnTo>
                  <a:lnTo>
                    <a:pt x="0" y="27116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4"/>
            <p:cNvSpPr/>
            <p:nvPr/>
          </p:nvSpPr>
          <p:spPr>
            <a:xfrm>
              <a:off x="0" y="-9360"/>
              <a:ext cx="7051680" cy="10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rm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23"/>
          <p:cNvSpPr/>
          <p:nvPr/>
        </p:nvSpPr>
        <p:spPr>
          <a:xfrm>
            <a:off x="7162920" y="190440"/>
            <a:ext cx="5181480" cy="23623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ios"/>
              </a:rPr>
              <a:t>Методическое обеспечение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Helios"/>
                <a:hlinkClick r:id="rId1"/>
              </a:rPr>
              <a:t>разработка диагностических материалов, критериев оценивания, </a:t>
            </a:r>
            <a:r>
              <a:rPr b="0" lang="ru-RU" sz="2000" spc="-1" strike="noStrike">
                <a:solidFill>
                  <a:srgbClr val="000000"/>
                </a:solidFill>
                <a:latin typeface="Helios"/>
              </a:rPr>
              <a:t>определение минимального количества баллов осуществляется Рособрнадзором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25"/>
          <p:cNvGrpSpPr/>
          <p:nvPr/>
        </p:nvGrpSpPr>
        <p:grpSpPr>
          <a:xfrm>
            <a:off x="12877920" y="343080"/>
            <a:ext cx="4724280" cy="2185920"/>
            <a:chOff x="12877920" y="343080"/>
            <a:chExt cx="4724280" cy="2185920"/>
          </a:xfrm>
        </p:grpSpPr>
        <p:sp>
          <p:nvSpPr>
            <p:cNvPr id="133" name="Freeform 26"/>
            <p:cNvSpPr/>
            <p:nvPr/>
          </p:nvSpPr>
          <p:spPr>
            <a:xfrm>
              <a:off x="12877920" y="343080"/>
              <a:ext cx="4724280" cy="2185920"/>
            </a:xfrm>
            <a:custGeom>
              <a:avLst/>
              <a:gdLst>
                <a:gd name="textAreaLeft" fmla="*/ 0 w 4724280"/>
                <a:gd name="textAreaRight" fmla="*/ 4724640 w 472428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657264" h="245847">
                  <a:moveTo>
                    <a:pt x="93069" y="0"/>
                  </a:moveTo>
                  <a:lnTo>
                    <a:pt x="564196" y="0"/>
                  </a:lnTo>
                  <a:cubicBezTo>
                    <a:pt x="588879" y="0"/>
                    <a:pt x="612551" y="9805"/>
                    <a:pt x="630005" y="27259"/>
                  </a:cubicBezTo>
                  <a:cubicBezTo>
                    <a:pt x="647459" y="44713"/>
                    <a:pt x="657264" y="68385"/>
                    <a:pt x="657264" y="93069"/>
                  </a:cubicBezTo>
                  <a:lnTo>
                    <a:pt x="657264" y="152778"/>
                  </a:lnTo>
                  <a:cubicBezTo>
                    <a:pt x="657264" y="177462"/>
                    <a:pt x="647459" y="201134"/>
                    <a:pt x="630005" y="218588"/>
                  </a:cubicBezTo>
                  <a:cubicBezTo>
                    <a:pt x="612551" y="236041"/>
                    <a:pt x="588879" y="245847"/>
                    <a:pt x="564196" y="245847"/>
                  </a:cubicBezTo>
                  <a:lnTo>
                    <a:pt x="93069" y="245847"/>
                  </a:lnTo>
                  <a:cubicBezTo>
                    <a:pt x="68385" y="245847"/>
                    <a:pt x="44713" y="236041"/>
                    <a:pt x="27259" y="218588"/>
                  </a:cubicBezTo>
                  <a:cubicBezTo>
                    <a:pt x="9805" y="201134"/>
                    <a:pt x="0" y="177462"/>
                    <a:pt x="0" y="152778"/>
                  </a:cubicBezTo>
                  <a:lnTo>
                    <a:pt x="0" y="93069"/>
                  </a:lnTo>
                  <a:cubicBezTo>
                    <a:pt x="0" y="68385"/>
                    <a:pt x="9805" y="44713"/>
                    <a:pt x="27259" y="27259"/>
                  </a:cubicBezTo>
                  <a:cubicBezTo>
                    <a:pt x="44713" y="9805"/>
                    <a:pt x="68385" y="0"/>
                    <a:pt x="93069" y="0"/>
                  </a:cubicBezTo>
                  <a:close/>
                </a:path>
              </a:pathLst>
            </a:custGeom>
            <a:solidFill>
              <a:srgbClr val="c0c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27"/>
            <p:cNvSpPr/>
            <p:nvPr/>
          </p:nvSpPr>
          <p:spPr>
            <a:xfrm>
              <a:off x="12957840" y="1275120"/>
              <a:ext cx="440928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4160" rIns="254160" tIns="254160" bIns="254160" anchor="ctr">
              <a:norm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7543800" y="3238560"/>
            <a:ext cx="3305160" cy="2308320"/>
            <a:chOff x="7543800" y="3238560"/>
            <a:chExt cx="3305160" cy="2308320"/>
          </a:xfrm>
        </p:grpSpPr>
        <p:sp>
          <p:nvSpPr>
            <p:cNvPr id="136" name="Freeform 30"/>
            <p:cNvSpPr/>
            <p:nvPr/>
          </p:nvSpPr>
          <p:spPr>
            <a:xfrm>
              <a:off x="7543800" y="3548160"/>
              <a:ext cx="3305160" cy="1998720"/>
            </a:xfrm>
            <a:custGeom>
              <a:avLst/>
              <a:gdLst>
                <a:gd name="textAreaLeft" fmla="*/ 0 w 3305160"/>
                <a:gd name="textAreaRight" fmla="*/ 3305520 w 33051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657264" h="245847">
                  <a:moveTo>
                    <a:pt x="93069" y="0"/>
                  </a:moveTo>
                  <a:lnTo>
                    <a:pt x="564196" y="0"/>
                  </a:lnTo>
                  <a:cubicBezTo>
                    <a:pt x="588879" y="0"/>
                    <a:pt x="612551" y="9805"/>
                    <a:pt x="630005" y="27259"/>
                  </a:cubicBezTo>
                  <a:cubicBezTo>
                    <a:pt x="647459" y="44713"/>
                    <a:pt x="657264" y="68385"/>
                    <a:pt x="657264" y="93069"/>
                  </a:cubicBezTo>
                  <a:lnTo>
                    <a:pt x="657264" y="152778"/>
                  </a:lnTo>
                  <a:cubicBezTo>
                    <a:pt x="657264" y="177462"/>
                    <a:pt x="647459" y="201134"/>
                    <a:pt x="630005" y="218588"/>
                  </a:cubicBezTo>
                  <a:cubicBezTo>
                    <a:pt x="612551" y="236041"/>
                    <a:pt x="588879" y="245847"/>
                    <a:pt x="564196" y="245847"/>
                  </a:cubicBezTo>
                  <a:lnTo>
                    <a:pt x="93069" y="245847"/>
                  </a:lnTo>
                  <a:cubicBezTo>
                    <a:pt x="68385" y="245847"/>
                    <a:pt x="44713" y="236041"/>
                    <a:pt x="27259" y="218588"/>
                  </a:cubicBezTo>
                  <a:cubicBezTo>
                    <a:pt x="9805" y="201134"/>
                    <a:pt x="0" y="177462"/>
                    <a:pt x="0" y="152778"/>
                  </a:cubicBezTo>
                  <a:lnTo>
                    <a:pt x="0" y="93069"/>
                  </a:lnTo>
                  <a:cubicBezTo>
                    <a:pt x="0" y="68385"/>
                    <a:pt x="9805" y="44713"/>
                    <a:pt x="27259" y="27259"/>
                  </a:cubicBezTo>
                  <a:cubicBezTo>
                    <a:pt x="44713" y="9805"/>
                    <a:pt x="68385" y="0"/>
                    <a:pt x="93069" y="0"/>
                  </a:cubicBezTo>
                  <a:close/>
                </a:path>
              </a:pathLst>
            </a:custGeom>
            <a:solidFill>
              <a:srgbClr val="c0c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31"/>
            <p:cNvSpPr/>
            <p:nvPr/>
          </p:nvSpPr>
          <p:spPr>
            <a:xfrm>
              <a:off x="7543800" y="3238560"/>
              <a:ext cx="3305160" cy="23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4160" rIns="254160" tIns="254160" bIns="254160" anchor="ctr">
              <a:norm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5"/>
          <p:cNvGrpSpPr/>
          <p:nvPr/>
        </p:nvGrpSpPr>
        <p:grpSpPr>
          <a:xfrm>
            <a:off x="11430000" y="2171880"/>
            <a:ext cx="4267080" cy="3716280"/>
            <a:chOff x="11430000" y="2171880"/>
            <a:chExt cx="4267080" cy="3716280"/>
          </a:xfrm>
        </p:grpSpPr>
        <p:sp>
          <p:nvSpPr>
            <p:cNvPr id="139" name="Freeform 36"/>
            <p:cNvSpPr/>
            <p:nvPr/>
          </p:nvSpPr>
          <p:spPr>
            <a:xfrm>
              <a:off x="11698560" y="3144960"/>
              <a:ext cx="3998520" cy="2514600"/>
            </a:xfrm>
            <a:custGeom>
              <a:avLst/>
              <a:gdLst>
                <a:gd name="textAreaLeft" fmla="*/ 0 w 3998520"/>
                <a:gd name="textAreaRight" fmla="*/ 3998880 w 399852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491694" h="245847">
                  <a:moveTo>
                    <a:pt x="122923" y="0"/>
                  </a:moveTo>
                  <a:lnTo>
                    <a:pt x="368770" y="0"/>
                  </a:lnTo>
                  <a:cubicBezTo>
                    <a:pt x="436659" y="0"/>
                    <a:pt x="491694" y="55035"/>
                    <a:pt x="491694" y="122923"/>
                  </a:cubicBezTo>
                  <a:cubicBezTo>
                    <a:pt x="491694" y="190812"/>
                    <a:pt x="436659" y="245847"/>
                    <a:pt x="368770" y="245847"/>
                  </a:cubicBezTo>
                  <a:lnTo>
                    <a:pt x="122923" y="245847"/>
                  </a:lnTo>
                  <a:cubicBezTo>
                    <a:pt x="55035" y="245847"/>
                    <a:pt x="0" y="190812"/>
                    <a:pt x="0" y="122923"/>
                  </a:cubicBezTo>
                  <a:cubicBezTo>
                    <a:pt x="0" y="55035"/>
                    <a:pt x="55035" y="0"/>
                    <a:pt x="122923" y="0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37"/>
            <p:cNvSpPr/>
            <p:nvPr/>
          </p:nvSpPr>
          <p:spPr>
            <a:xfrm>
              <a:off x="11430000" y="2171880"/>
              <a:ext cx="4226040" cy="37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4160" rIns="254160" tIns="254160" bIns="254160" anchor="ctr">
              <a:norm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5"/>
          <p:cNvGrpSpPr/>
          <p:nvPr/>
        </p:nvGrpSpPr>
        <p:grpSpPr>
          <a:xfrm>
            <a:off x="13716000" y="5659560"/>
            <a:ext cx="4419720" cy="2379600"/>
            <a:chOff x="13716000" y="5659560"/>
            <a:chExt cx="4419720" cy="2379600"/>
          </a:xfrm>
        </p:grpSpPr>
        <p:sp>
          <p:nvSpPr>
            <p:cNvPr id="142" name="Freeform 46"/>
            <p:cNvSpPr/>
            <p:nvPr/>
          </p:nvSpPr>
          <p:spPr>
            <a:xfrm>
              <a:off x="13716000" y="5978880"/>
              <a:ext cx="4419720" cy="2060280"/>
            </a:xfrm>
            <a:custGeom>
              <a:avLst/>
              <a:gdLst>
                <a:gd name="textAreaLeft" fmla="*/ 0 w 4419720"/>
                <a:gd name="textAreaRight" fmla="*/ 4420080 w 4419720"/>
                <a:gd name="textAreaTop" fmla="*/ 0 h 2060280"/>
                <a:gd name="textAreaBottom" fmla="*/ 2060640 h 2060280"/>
              </a:gdLst>
              <a:ahLst/>
              <a:rect l="textAreaLeft" t="textAreaTop" r="textAreaRight" b="textAreaBottom"/>
              <a:pathLst>
                <a:path w="657264" h="245847">
                  <a:moveTo>
                    <a:pt x="93069" y="0"/>
                  </a:moveTo>
                  <a:lnTo>
                    <a:pt x="564196" y="0"/>
                  </a:lnTo>
                  <a:cubicBezTo>
                    <a:pt x="588879" y="0"/>
                    <a:pt x="612551" y="9805"/>
                    <a:pt x="630005" y="27259"/>
                  </a:cubicBezTo>
                  <a:cubicBezTo>
                    <a:pt x="647459" y="44713"/>
                    <a:pt x="657264" y="68385"/>
                    <a:pt x="657264" y="93069"/>
                  </a:cubicBezTo>
                  <a:lnTo>
                    <a:pt x="657264" y="152778"/>
                  </a:lnTo>
                  <a:cubicBezTo>
                    <a:pt x="657264" y="177462"/>
                    <a:pt x="647459" y="201134"/>
                    <a:pt x="630005" y="218588"/>
                  </a:cubicBezTo>
                  <a:cubicBezTo>
                    <a:pt x="612551" y="236041"/>
                    <a:pt x="588879" y="245847"/>
                    <a:pt x="564196" y="245847"/>
                  </a:cubicBezTo>
                  <a:lnTo>
                    <a:pt x="93069" y="245847"/>
                  </a:lnTo>
                  <a:cubicBezTo>
                    <a:pt x="68385" y="245847"/>
                    <a:pt x="44713" y="236041"/>
                    <a:pt x="27259" y="218588"/>
                  </a:cubicBezTo>
                  <a:cubicBezTo>
                    <a:pt x="9805" y="201134"/>
                    <a:pt x="0" y="177462"/>
                    <a:pt x="0" y="152778"/>
                  </a:cubicBezTo>
                  <a:lnTo>
                    <a:pt x="0" y="93069"/>
                  </a:lnTo>
                  <a:cubicBezTo>
                    <a:pt x="0" y="68385"/>
                    <a:pt x="9805" y="44713"/>
                    <a:pt x="27259" y="27259"/>
                  </a:cubicBezTo>
                  <a:cubicBezTo>
                    <a:pt x="44713" y="9805"/>
                    <a:pt x="68385" y="0"/>
                    <a:pt x="93069" y="0"/>
                  </a:cubicBezTo>
                  <a:close/>
                </a:path>
              </a:pathLst>
            </a:custGeom>
            <a:solidFill>
              <a:srgbClr val="c0c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47"/>
            <p:cNvSpPr/>
            <p:nvPr/>
          </p:nvSpPr>
          <p:spPr>
            <a:xfrm>
              <a:off x="13716000" y="5659560"/>
              <a:ext cx="441972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4160" rIns="254160" tIns="254160" bIns="254160" anchor="ctr">
              <a:norm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1"/>
          <p:cNvGrpSpPr/>
          <p:nvPr/>
        </p:nvGrpSpPr>
        <p:grpSpPr>
          <a:xfrm>
            <a:off x="9067680" y="5981760"/>
            <a:ext cx="3657600" cy="2209680"/>
            <a:chOff x="9067680" y="5981760"/>
            <a:chExt cx="3657600" cy="2209680"/>
          </a:xfrm>
        </p:grpSpPr>
        <p:sp>
          <p:nvSpPr>
            <p:cNvPr id="145" name="Freeform 52"/>
            <p:cNvSpPr/>
            <p:nvPr/>
          </p:nvSpPr>
          <p:spPr>
            <a:xfrm>
              <a:off x="9067680" y="6278040"/>
              <a:ext cx="3657600" cy="1913400"/>
            </a:xfrm>
            <a:custGeom>
              <a:avLst/>
              <a:gdLst>
                <a:gd name="textAreaLeft" fmla="*/ 0 w 3657600"/>
                <a:gd name="textAreaRight" fmla="*/ 3657960 w 3657600"/>
                <a:gd name="textAreaTop" fmla="*/ 0 h 1913400"/>
                <a:gd name="textAreaBottom" fmla="*/ 1913760 h 1913400"/>
              </a:gdLst>
              <a:ahLst/>
              <a:rect l="textAreaLeft" t="textAreaTop" r="textAreaRight" b="textAreaBottom"/>
              <a:pathLst>
                <a:path w="491694" h="245847">
                  <a:moveTo>
                    <a:pt x="122923" y="0"/>
                  </a:moveTo>
                  <a:lnTo>
                    <a:pt x="368770" y="0"/>
                  </a:lnTo>
                  <a:cubicBezTo>
                    <a:pt x="436659" y="0"/>
                    <a:pt x="491694" y="55035"/>
                    <a:pt x="491694" y="122923"/>
                  </a:cubicBezTo>
                  <a:cubicBezTo>
                    <a:pt x="491694" y="190812"/>
                    <a:pt x="436659" y="245847"/>
                    <a:pt x="368770" y="245847"/>
                  </a:cubicBezTo>
                  <a:lnTo>
                    <a:pt x="122923" y="245847"/>
                  </a:lnTo>
                  <a:cubicBezTo>
                    <a:pt x="55035" y="245847"/>
                    <a:pt x="0" y="190812"/>
                    <a:pt x="0" y="122923"/>
                  </a:cubicBezTo>
                  <a:cubicBezTo>
                    <a:pt x="0" y="55035"/>
                    <a:pt x="55035" y="0"/>
                    <a:pt x="122923" y="0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3"/>
            <p:cNvSpPr/>
            <p:nvPr/>
          </p:nvSpPr>
          <p:spPr>
            <a:xfrm>
              <a:off x="9067680" y="5981760"/>
              <a:ext cx="36576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4160" rIns="254160" tIns="254160" bIns="254160" anchor="ctr">
              <a:norm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9524880" y="8420040"/>
            <a:ext cx="6553440" cy="1866960"/>
            <a:chOff x="9524880" y="8420040"/>
            <a:chExt cx="6553440" cy="1866960"/>
          </a:xfrm>
        </p:grpSpPr>
        <p:sp>
          <p:nvSpPr>
            <p:cNvPr id="148" name="Freeform 55"/>
            <p:cNvSpPr/>
            <p:nvPr/>
          </p:nvSpPr>
          <p:spPr>
            <a:xfrm>
              <a:off x="9524880" y="8670240"/>
              <a:ext cx="6553440" cy="1616760"/>
            </a:xfrm>
            <a:custGeom>
              <a:avLst/>
              <a:gdLst>
                <a:gd name="textAreaLeft" fmla="*/ 0 w 6553440"/>
                <a:gd name="textAreaRight" fmla="*/ 6553800 w 6553440"/>
                <a:gd name="textAreaTop" fmla="*/ 0 h 1616760"/>
                <a:gd name="textAreaBottom" fmla="*/ 1617120 h 1616760"/>
              </a:gdLst>
              <a:ahLst/>
              <a:rect l="textAreaLeft" t="textAreaTop" r="textAreaRight" b="textAreaBottom"/>
              <a:pathLst>
                <a:path w="491694" h="245847">
                  <a:moveTo>
                    <a:pt x="122923" y="0"/>
                  </a:moveTo>
                  <a:lnTo>
                    <a:pt x="368770" y="0"/>
                  </a:lnTo>
                  <a:cubicBezTo>
                    <a:pt x="436659" y="0"/>
                    <a:pt x="491694" y="55035"/>
                    <a:pt x="491694" y="122923"/>
                  </a:cubicBezTo>
                  <a:cubicBezTo>
                    <a:pt x="491694" y="190812"/>
                    <a:pt x="436659" y="245847"/>
                    <a:pt x="368770" y="245847"/>
                  </a:cubicBezTo>
                  <a:lnTo>
                    <a:pt x="122923" y="245847"/>
                  </a:lnTo>
                  <a:cubicBezTo>
                    <a:pt x="55035" y="245847"/>
                    <a:pt x="0" y="190812"/>
                    <a:pt x="0" y="122923"/>
                  </a:cubicBezTo>
                  <a:cubicBezTo>
                    <a:pt x="0" y="55035"/>
                    <a:pt x="55035" y="0"/>
                    <a:pt x="122923" y="0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56"/>
            <p:cNvSpPr/>
            <p:nvPr/>
          </p:nvSpPr>
          <p:spPr>
            <a:xfrm>
              <a:off x="9524880" y="8420040"/>
              <a:ext cx="65534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4160" rIns="254160" tIns="254160" bIns="254160" anchor="ctr">
              <a:norm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Group 57" descr=""/>
          <p:cNvPicPr/>
          <p:nvPr/>
        </p:nvPicPr>
        <p:blipFill>
          <a:blip r:embed="rId2"/>
          <a:stretch/>
        </p:blipFill>
        <p:spPr>
          <a:xfrm>
            <a:off x="1371600" y="4827600"/>
            <a:ext cx="5565600" cy="45846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9"/>
          <p:cNvSpPr/>
          <p:nvPr/>
        </p:nvSpPr>
        <p:spPr>
          <a:xfrm>
            <a:off x="1600200" y="4991040"/>
            <a:ext cx="525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Тестирование проводится по годам обуче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тся следующие уровни знания русского язы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достаточный для освоения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едостаточный для освоения образовательных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Продолжительность проведения тестирования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8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2"/>
          <p:cNvSpPr/>
          <p:nvPr/>
        </p:nvSpPr>
        <p:spPr>
          <a:xfrm>
            <a:off x="13106520" y="419040"/>
            <a:ext cx="4495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ios"/>
                <a:ea typeface="Arial"/>
              </a:rPr>
              <a:t>Информация о датах проведения тестирования, демоверсии диагностических материалов, критерии оценивания размещаются на официальных сайтах образовательных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12115800" y="1562040"/>
            <a:ext cx="985680" cy="0"/>
          </a:xfrm>
          <a:prstGeom prst="line">
            <a:avLst/>
          </a:prstGeom>
          <a:ln w="19080">
            <a:solidFill>
              <a:srgbClr val="2a2e3a"/>
            </a:solidFill>
            <a:prstDash val="lg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8"/>
          <p:cNvSpPr/>
          <p:nvPr/>
        </p:nvSpPr>
        <p:spPr>
          <a:xfrm>
            <a:off x="12115800" y="3543480"/>
            <a:ext cx="3352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ios"/>
                <a:ea typeface="Arial"/>
              </a:rPr>
              <a:t>Тестирование проводи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ios"/>
                <a:ea typeface="Arial"/>
              </a:rPr>
              <a:t>в устной и письменной форм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ios"/>
                <a:ea typeface="Arial"/>
              </a:rPr>
              <a:t>(за исключением 1-го класс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3"/>
          <p:cNvSpPr/>
          <p:nvPr/>
        </p:nvSpPr>
        <p:spPr>
          <a:xfrm flipH="1">
            <a:off x="14325480" y="2476440"/>
            <a:ext cx="914400" cy="608040"/>
          </a:xfrm>
          <a:prstGeom prst="line">
            <a:avLst/>
          </a:prstGeom>
          <a:ln w="19080">
            <a:solidFill>
              <a:srgbClr val="2a2e3a"/>
            </a:solidFill>
            <a:prstDash val="lg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9"/>
          <p:cNvSpPr/>
          <p:nvPr/>
        </p:nvSpPr>
        <p:spPr>
          <a:xfrm>
            <a:off x="7467480" y="3695760"/>
            <a:ext cx="324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ios"/>
                <a:ea typeface="Arial"/>
              </a:rPr>
              <a:t>Во время проведения тестирования обязательна видео и аудио за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 flipH="1">
            <a:off x="10667880" y="4229280"/>
            <a:ext cx="992160" cy="237960"/>
          </a:xfrm>
          <a:prstGeom prst="line">
            <a:avLst/>
          </a:prstGeom>
          <a:ln w="19080">
            <a:solidFill>
              <a:srgbClr val="2a2e3a"/>
            </a:solidFill>
            <a:prstDash val="lg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1"/>
          <p:cNvSpPr/>
          <p:nvPr/>
        </p:nvSpPr>
        <p:spPr>
          <a:xfrm>
            <a:off x="9448920" y="643896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ios"/>
                <a:ea typeface="Arial"/>
              </a:rPr>
              <a:t>Перед проведением тестирования проводится инструктаж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8991720" y="5524560"/>
            <a:ext cx="990360" cy="457200"/>
          </a:xfrm>
          <a:prstGeom prst="line">
            <a:avLst/>
          </a:prstGeom>
          <a:ln w="19080">
            <a:solidFill>
              <a:srgbClr val="2a2e3a"/>
            </a:solidFill>
            <a:prstDash val="lg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2"/>
          <p:cNvSpPr/>
          <p:nvPr/>
        </p:nvSpPr>
        <p:spPr>
          <a:xfrm>
            <a:off x="13765320" y="5818320"/>
            <a:ext cx="432108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ios"/>
                <a:ea typeface="Arial"/>
              </a:rPr>
              <a:t>При проведении тестирования ребенку запрещается пользоваться средствами связи, фото-, аудио-, шпаргалкам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"/>
                <a:ea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Helios"/>
                <a:ea typeface="Arial"/>
              </a:rPr>
              <a:t>нахождение родителя(ей) в аудитории во время тест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Helios"/>
                <a:ea typeface="Arial"/>
              </a:rPr>
              <a:t>не предусмотрено</a:t>
            </a:r>
            <a:r>
              <a:rPr b="0" lang="ru-RU" sz="1800" spc="-1" strike="noStrike">
                <a:solidFill>
                  <a:srgbClr val="000000"/>
                </a:solidFill>
                <a:latin typeface="Helios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 flipH="1">
            <a:off x="14020560" y="8039160"/>
            <a:ext cx="1600200" cy="380880"/>
          </a:xfrm>
          <a:prstGeom prst="line">
            <a:avLst/>
          </a:prstGeom>
          <a:ln w="19080">
            <a:solidFill>
              <a:srgbClr val="2a2e3a"/>
            </a:solidFill>
            <a:prstDash val="lg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1"/>
          <p:cNvSpPr/>
          <p:nvPr/>
        </p:nvSpPr>
        <p:spPr>
          <a:xfrm>
            <a:off x="304920" y="98280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a2e3a"/>
                </a:solidFill>
                <a:latin typeface="Klein Bold"/>
                <a:ea typeface="Arial"/>
              </a:rPr>
              <a:t>Проведение тестирования иностранных 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8" descr=""/>
          <p:cNvPicPr/>
          <p:nvPr/>
        </p:nvPicPr>
        <p:blipFill>
          <a:blip r:embed="rId3"/>
          <a:stretch/>
        </p:blipFill>
        <p:spPr>
          <a:xfrm>
            <a:off x="65160" y="6324480"/>
            <a:ext cx="1241280" cy="17528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1"/>
          <p:cNvSpPr/>
          <p:nvPr/>
        </p:nvSpPr>
        <p:spPr>
          <a:xfrm>
            <a:off x="12649320" y="7201080"/>
            <a:ext cx="1152360" cy="18720"/>
          </a:xfrm>
          <a:prstGeom prst="line">
            <a:avLst/>
          </a:prstGeom>
          <a:ln w="19080">
            <a:solidFill>
              <a:srgbClr val="2a2e3a"/>
            </a:solidFill>
            <a:prstDash val="lg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4"/>
          <p:cNvSpPr/>
          <p:nvPr/>
        </p:nvSpPr>
        <p:spPr>
          <a:xfrm>
            <a:off x="10210680" y="872496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2"/>
          <p:cNvSpPr/>
          <p:nvPr/>
        </p:nvSpPr>
        <p:spPr>
          <a:xfrm>
            <a:off x="9601200" y="8594640"/>
            <a:ext cx="64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ios"/>
                <a:ea typeface="Arial"/>
              </a:rPr>
              <a:t>Информирование о результатах тестирования родителей ребенка, являющегося иностранным гражданином, осуществляется на адрес электронной почты, указанный в заявлении,</a:t>
            </a:r>
            <a:r>
              <a:rPr b="1" lang="ru-RU" sz="2000" spc="-1" strike="noStrike">
                <a:solidFill>
                  <a:srgbClr val="2a2e3a"/>
                </a:solidFill>
                <a:latin typeface="Helios Bold"/>
                <a:ea typeface="Helios Bold"/>
              </a:rPr>
              <a:t> </a:t>
            </a:r>
            <a:r>
              <a:rPr b="0" lang="ru-RU" sz="2000" spc="-1" strike="noStrike">
                <a:solidFill>
                  <a:srgbClr val="2a2e3a"/>
                </a:solidFill>
                <a:latin typeface="Helios Bold"/>
                <a:ea typeface="Helios Bold"/>
              </a:rPr>
              <a:t>в личный кабинет ЕПГУ (при налич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2"/>
          <p:cNvSpPr/>
          <p:nvPr/>
        </p:nvSpPr>
        <p:spPr>
          <a:xfrm>
            <a:off x="-1585800" y="-1193760"/>
            <a:ext cx="13960440" cy="139604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ttps:/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мвд.рф/реестр-контролируемых-лиц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655640" y="2840040"/>
            <a:ext cx="600264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2a2e3a"/>
                </a:solidFill>
                <a:latin typeface="Klein Bold"/>
                <a:ea typeface="Arial"/>
              </a:rPr>
              <a:t>Прием и проверка документов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0515600" y="0"/>
            <a:ext cx="7848720" cy="102870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9"/>
          <p:cNvGrpSpPr/>
          <p:nvPr/>
        </p:nvGrpSpPr>
        <p:grpSpPr>
          <a:xfrm>
            <a:off x="10907640" y="277920"/>
            <a:ext cx="6058080" cy="3325680"/>
            <a:chOff x="10907640" y="277920"/>
            <a:chExt cx="6058080" cy="3325680"/>
          </a:xfrm>
        </p:grpSpPr>
        <p:sp>
          <p:nvSpPr>
            <p:cNvPr id="171" name="TextBox 10"/>
            <p:cNvSpPr/>
            <p:nvPr/>
          </p:nvSpPr>
          <p:spPr>
            <a:xfrm>
              <a:off x="10907640" y="277920"/>
              <a:ext cx="500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 </a:t>
              </a: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1"/>
            <p:cNvSpPr/>
            <p:nvPr/>
          </p:nvSpPr>
          <p:spPr>
            <a:xfrm>
              <a:off x="10934280" y="831960"/>
              <a:ext cx="6031440" cy="27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Дата приема документов устанавливается общеобразовательной организацией (в течение 5 рабочих дней ОО проводится проверка их комплектности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4"/>
          <p:cNvGrpSpPr/>
          <p:nvPr/>
        </p:nvGrpSpPr>
        <p:grpSpPr>
          <a:xfrm>
            <a:off x="12098160" y="3343320"/>
            <a:ext cx="4867560" cy="2997000"/>
            <a:chOff x="12098160" y="3343320"/>
            <a:chExt cx="4867560" cy="2997000"/>
          </a:xfrm>
        </p:grpSpPr>
        <p:sp>
          <p:nvSpPr>
            <p:cNvPr id="174" name="TextBox 15"/>
            <p:cNvSpPr/>
            <p:nvPr/>
          </p:nvSpPr>
          <p:spPr>
            <a:xfrm>
              <a:off x="12098160" y="3343320"/>
              <a:ext cx="4350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45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ffff"/>
                  </a:solidFill>
                  <a:latin typeface="Klein Bold"/>
                  <a:ea typeface="Klein Bold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6"/>
            <p:cNvSpPr/>
            <p:nvPr/>
          </p:nvSpPr>
          <p:spPr>
            <a:xfrm>
              <a:off x="12098160" y="4030560"/>
              <a:ext cx="4867560" cy="23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Helios"/>
                  <a:ea typeface="Arial"/>
                </a:rPr>
                <a:t>В случае предоставления неполного комплекта документов, ОО организация возвращает заявление без его рассмотрен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5"/>
          <p:cNvSpPr/>
          <p:nvPr/>
        </p:nvSpPr>
        <p:spPr>
          <a:xfrm>
            <a:off x="12649320" y="6591240"/>
            <a:ext cx="51814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Klein Bold"/>
                <a:ea typeface="Klein Bold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В случае предоставления полного комплекта документов, ОО в течение 25 рабочих дней осуществляет проверку достоверности (через информационные системы, включая МВД) и выдае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Helios"/>
                <a:ea typeface="Arial"/>
                <a:hlinkClick r:id="rId3"/>
              </a:rPr>
              <a:t>направление</a:t>
            </a: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 на 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2057400" y="6667560"/>
            <a:ext cx="701532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Helios Bold"/>
                <a:ea typeface="Arial"/>
                <a:hlinkClick r:id="rId4"/>
              </a:rPr>
              <a:t>Памятка по проверке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Helios Bold"/>
                <a:ea typeface="Arial"/>
                <a:hlinkClick r:id="rId5"/>
              </a:rPr>
              <a:t>https://disk.yandex.ru/i/kir-whTvdkfRnA</a:t>
            </a:r>
            <a:r>
              <a:rPr b="0" lang="ru-RU" sz="3200" spc="-1" strike="noStrike">
                <a:solidFill>
                  <a:srgbClr val="000000"/>
                </a:solidFill>
                <a:latin typeface="Helios Bold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8" descr=""/>
          <p:cNvPicPr/>
          <p:nvPr/>
        </p:nvPicPr>
        <p:blipFill>
          <a:blip r:embed="rId6"/>
          <a:stretch/>
        </p:blipFill>
        <p:spPr>
          <a:xfrm>
            <a:off x="380880" y="6743880"/>
            <a:ext cx="8845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9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0" y="3086280"/>
            <a:ext cx="18288000" cy="6513480"/>
            <a:chOff x="0" y="3086280"/>
            <a:chExt cx="18288000" cy="6513480"/>
          </a:xfrm>
        </p:grpSpPr>
        <p:sp>
          <p:nvSpPr>
            <p:cNvPr id="180" name="Freeform 5"/>
            <p:cNvSpPr/>
            <p:nvPr/>
          </p:nvSpPr>
          <p:spPr>
            <a:xfrm>
              <a:off x="0" y="3329640"/>
              <a:ext cx="18288000" cy="6270120"/>
            </a:xfrm>
            <a:custGeom>
              <a:avLst/>
              <a:gdLst>
                <a:gd name="textAreaLeft" fmla="*/ 0 w 18288000"/>
                <a:gd name="textAreaRight" fmla="*/ 18288360 w 18288000"/>
                <a:gd name="textAreaTop" fmla="*/ 0 h 6270120"/>
                <a:gd name="textAreaBottom" fmla="*/ 6270480 h 6270120"/>
              </a:gdLst>
              <a:ahLst/>
              <a:rect l="textAreaLeft" t="textAreaTop" r="textAreaRight" b="textAreaBottom"/>
              <a:pathLst>
                <a:path w="4816592" h="1715591">
                  <a:moveTo>
                    <a:pt x="0" y="0"/>
                  </a:moveTo>
                  <a:lnTo>
                    <a:pt x="4816592" y="0"/>
                  </a:lnTo>
                  <a:lnTo>
                    <a:pt x="4816592" y="1715591"/>
                  </a:lnTo>
                  <a:lnTo>
                    <a:pt x="0" y="17155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6"/>
            <p:cNvSpPr/>
            <p:nvPr/>
          </p:nvSpPr>
          <p:spPr>
            <a:xfrm>
              <a:off x="0" y="3086280"/>
              <a:ext cx="18288000" cy="65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rmAutofit/>
            </a:bodyPr>
            <a:p>
              <a:pPr algn="ctr">
                <a:lnSpc>
                  <a:spcPts val="36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9"/>
          <p:cNvSpPr/>
          <p:nvPr/>
        </p:nvSpPr>
        <p:spPr>
          <a:xfrm>
            <a:off x="1371600" y="266760"/>
            <a:ext cx="155163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Klein Bold"/>
                <a:ea typeface="Arial"/>
              </a:rPr>
              <a:t>Основания для отказа в приеме в школ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8332920" y="9678960"/>
            <a:ext cx="1622160" cy="162072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1621594" h="1621594">
                <a:moveTo>
                  <a:pt x="0" y="0"/>
                </a:moveTo>
                <a:lnTo>
                  <a:pt x="1621594" y="0"/>
                </a:lnTo>
                <a:lnTo>
                  <a:pt x="1621594" y="1621594"/>
                </a:lnTo>
                <a:lnTo>
                  <a:pt x="0" y="162159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2438280" y="4508640"/>
            <a:ext cx="1822680" cy="18158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1"/>
          <p:cNvSpPr/>
          <p:nvPr/>
        </p:nvSpPr>
        <p:spPr>
          <a:xfrm>
            <a:off x="1676520" y="6478560"/>
            <a:ext cx="320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2e3a"/>
                </a:solidFill>
                <a:latin typeface="Klein Bold"/>
                <a:ea typeface="Arial"/>
              </a:rPr>
              <a:t>Случай </a:t>
            </a:r>
            <a:r>
              <a:rPr b="1" lang="en-US" sz="4000" spc="-1" strike="noStrike">
                <a:solidFill>
                  <a:srgbClr val="2a2e3a"/>
                </a:solidFill>
                <a:latin typeface="Klein Bold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6858000" y="721044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lein Bold"/>
                <a:ea typeface="Arial"/>
              </a:rPr>
              <a:t>Если ребенок не прошел тестирование на з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lein Bold"/>
                <a:ea typeface="Arial"/>
              </a:rPr>
              <a:t>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8023320" y="4560840"/>
            <a:ext cx="1822320" cy="18223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7"/>
          <p:cNvSpPr/>
          <p:nvPr/>
        </p:nvSpPr>
        <p:spPr>
          <a:xfrm>
            <a:off x="914400" y="721512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lein Bold"/>
                <a:ea typeface="Arial"/>
              </a:rPr>
              <a:t>Если не представлен документ, подтверждающий законность нахождения на территори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4"/>
          <a:stretch/>
        </p:blipFill>
        <p:spPr>
          <a:xfrm>
            <a:off x="13792320" y="4567320"/>
            <a:ext cx="1822320" cy="18223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0"/>
          <p:cNvSpPr/>
          <p:nvPr/>
        </p:nvSpPr>
        <p:spPr>
          <a:xfrm>
            <a:off x="12227040" y="7209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lein Bold"/>
                <a:ea typeface="Arial"/>
              </a:rPr>
              <a:t>Отсутствие в О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lein Bold"/>
                <a:ea typeface="Arial"/>
              </a:rPr>
              <a:t>свободных м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9"/>
          <p:cNvSpPr/>
          <p:nvPr/>
        </p:nvSpPr>
        <p:spPr>
          <a:xfrm>
            <a:off x="533520" y="571680"/>
            <a:ext cx="1143000" cy="1638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38000"/>
              <a:gd name="textAreaBottom" fmla="*/ 1638360 h 1638000"/>
            </a:gdLst>
            <a:ahLst/>
            <a:rect l="textAreaLeft" t="textAreaTop" r="textAreaRight" b="textAreaBottom"/>
            <a:pathLst>
              <a:path w="880367" h="1247944">
                <a:moveTo>
                  <a:pt x="0" y="0"/>
                </a:moveTo>
                <a:lnTo>
                  <a:pt x="880367" y="0"/>
                </a:lnTo>
                <a:lnTo>
                  <a:pt x="880367" y="1247944"/>
                </a:lnTo>
                <a:lnTo>
                  <a:pt x="0" y="12479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7391520" y="6465960"/>
            <a:ext cx="320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2e3a"/>
                </a:solidFill>
                <a:latin typeface="Klein Bold"/>
                <a:ea typeface="Arial"/>
              </a:rPr>
              <a:t>Случай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13106520" y="6478560"/>
            <a:ext cx="320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2e3a"/>
                </a:solidFill>
                <a:latin typeface="Klein Bold"/>
                <a:ea typeface="Arial"/>
              </a:rPr>
              <a:t>Случай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reeform 2"/>
          <p:cNvSpPr/>
          <p:nvPr/>
        </p:nvSpPr>
        <p:spPr>
          <a:xfrm>
            <a:off x="-1219320" y="-2552760"/>
            <a:ext cx="13960440" cy="139604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ttps:/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вд.рф/реестр-контролируемых-лиц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792000" y="266760"/>
            <a:ext cx="750600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a2e3a"/>
                </a:solidFill>
                <a:latin typeface="Klein Bold"/>
                <a:ea typeface="Arial"/>
              </a:rPr>
              <a:t>Проведение тестирования иностранных 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9372600" y="0"/>
            <a:ext cx="8915400" cy="10287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0"/>
          <p:cNvSpPr/>
          <p:nvPr/>
        </p:nvSpPr>
        <p:spPr>
          <a:xfrm>
            <a:off x="10907640" y="277920"/>
            <a:ext cx="5000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9677520" y="554040"/>
            <a:ext cx="8610480" cy="9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1. Тестирование проводится образовательной организацией, куда обратился иностранный граждан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2. В тестирующей организации создается пункт прохождения тестирования, в котором может быть использовано материально-техническое оборудование, применяемое в пунктах проведения экзаменов при проведении государственной итоговой аттестации; возможно использование ноутбука, который осуществляет видео и аудиозапись на собственный жесткий диск с возможностью копирования записи для хранения в архи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3. В ОО создается комиссия по проведению тестирования в количестве не менее 3-х человек из числа педагогических работников (в составе председателя и членов комиссии)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К организационно-техническому обеспечению могут привлекаться технические специалисты, наблюдатели и вспомогательный персон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4. В ОО издается приказ директ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- о назначении ответственного  за провед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тест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Helios"/>
                <a:ea typeface="Arial"/>
              </a:rPr>
              <a:t>- о составе комиссии по тест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8" descr=""/>
          <p:cNvPicPr/>
          <p:nvPr/>
        </p:nvPicPr>
        <p:blipFill>
          <a:blip r:embed="rId3"/>
          <a:stretch/>
        </p:blipFill>
        <p:spPr>
          <a:xfrm>
            <a:off x="50760" y="5448240"/>
            <a:ext cx="1509840" cy="21337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7"/>
          <p:cNvSpPr/>
          <p:nvPr/>
        </p:nvSpPr>
        <p:spPr>
          <a:xfrm>
            <a:off x="1655640" y="3848040"/>
            <a:ext cx="7543800" cy="63356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Helios"/>
              </a:rPr>
              <a:t>Даты проведения тест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Helios"/>
              </a:rPr>
              <a:t>в Самарской обла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"/>
              </a:rPr>
              <a:t>30.04.20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"/>
              </a:rPr>
              <a:t>28.05.20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"/>
              </a:rPr>
              <a:t>30.06.20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"/>
              </a:rPr>
              <a:t>31.07.20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"/>
              </a:rPr>
              <a:t>29.08.20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"/>
              </a:rPr>
              <a:t>30.09.20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"/>
              </a:rPr>
              <a:t>31.10.20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"/>
              </a:rPr>
              <a:t>28.11.202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ios"/>
              </a:rPr>
              <a:t>30.12.20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Установлены  распоряжением Министерства образования Самарской област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Helios"/>
              </a:rPr>
              <a:t>от 24.03.2025 №426-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om</dc:creator>
  <dc:description/>
  <dc:language>en-US</dc:language>
  <cp:lastModifiedBy>RePack by Diakov</cp:lastModifiedBy>
  <dcterms:modified xsi:type="dcterms:W3CDTF">2025-04-23T21:10:07Z</dcterms:modified>
  <cp:revision>136</cp:revision>
  <dc:subject/>
  <dc:title>Company Profile Presentation</dc:title>
</cp:coreProperties>
</file>